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718F-461F-4BEC-A60E-8AA00B291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49F4-64B9-4136-82DB-B17C020FE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179-A8FB-4111-8274-7BABE091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0A0-82F6-4A26-89FB-B9B8B8DA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725-79F4-4C6B-AFF9-877829BA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0D5-DAEC-439E-AB5F-03397B0B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C92-CEB1-468C-A8FA-62F9A72D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5BB-1B0A-43BE-8C6F-F9CB74B3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4F0-BB26-4266-A3DB-69AAFE1B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2D2-8159-4701-9FEE-79D980BB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CD47-ADED-42DD-9FFD-428603B4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FF2-4C00-4388-B9A3-D0BBDE9E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5C6C-BBC2-4D8F-A96D-89A78137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913-C22B-438D-9B82-CB42DC2E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B6B9-F78E-440A-9D68-FDCF91308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inklas.vu.l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VU kompiuterių tinklas ir jo administravi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© VU ITTC KT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Aurelija Gefenien</a:t>
            </a:r>
            <a:r>
              <a:rPr b="0" lang="lt-LT" sz="1800" spc="-1" strike="noStrike">
                <a:solidFill>
                  <a:srgbClr val="898989"/>
                </a:solidFill>
                <a:latin typeface="Calibri"/>
              </a:rPr>
              <a:t>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2011-06-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590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Rectangle 1" descr=""/>
          <p:cNvPicPr/>
          <p:nvPr/>
        </p:nvPicPr>
        <p:blipFill>
          <a:blip r:embed="rId1"/>
          <a:stretch/>
        </p:blipFill>
        <p:spPr>
          <a:xfrm>
            <a:off x="3097080" y="2779560"/>
            <a:ext cx="29386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U K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VU duomenu perdavimo magistraliu schema-2010.emf"/>
          <p:cNvPicPr/>
          <p:nvPr/>
        </p:nvPicPr>
        <p:blipFill>
          <a:blip r:embed="rId1"/>
          <a:stretch/>
        </p:blipFill>
        <p:spPr>
          <a:xfrm>
            <a:off x="468360" y="1197000"/>
            <a:ext cx="8351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U vidutiniai duomen</a:t>
            </a:r>
            <a:r>
              <a:rPr b="0" lang="lt-LT" sz="2000" spc="-1" strike="noStrike">
                <a:solidFill>
                  <a:srgbClr val="000000"/>
                </a:solidFill>
                <a:latin typeface="Calibri"/>
              </a:rPr>
              <a:t>ų srautai 2010 m. (TB per mėn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476280"/>
          <a:ext cx="8229600" cy="6129360"/>
        </p:xfrm>
        <a:graphic>
          <a:graphicData uri="http://schemas.openxmlformats.org/drawingml/2006/table">
            <a:tbl>
              <a:tblPr/>
              <a:tblGrid>
                <a:gridCol w="658800"/>
                <a:gridCol w="2879640"/>
                <a:gridCol w="792360"/>
                <a:gridCol w="792000"/>
                <a:gridCol w="792360"/>
                <a:gridCol w="792000"/>
                <a:gridCol w="720720"/>
                <a:gridCol w="801720"/>
              </a:tblGrid>
              <a:tr h="398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l. N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dalin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šsiųsta,</a:t>
                      </a:r>
                      <a:br>
                        <a:rPr sz="900"/>
                      </a:br>
                      <a:r>
                        <a:rPr b="1" lang="lt-LT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etuv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uta,</a:t>
                      </a:r>
                      <a:br>
                        <a:rPr sz="900"/>
                      </a:br>
                      <a:r>
                        <a:rPr b="1" lang="lt-LT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etuv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šsiųsta,</a:t>
                      </a:r>
                      <a:br>
                        <a:rPr sz="900"/>
                      </a:br>
                      <a:r>
                        <a:rPr b="1" lang="lt-LT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saul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uta,</a:t>
                      </a:r>
                      <a:br>
                        <a:rPr sz="900"/>
                      </a:br>
                      <a:r>
                        <a:rPr b="1" lang="lt-LT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saul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šsiųsta,</a:t>
                      </a:r>
                      <a:br>
                        <a:rPr sz="900"/>
                      </a:br>
                      <a:r>
                        <a:rPr b="1" lang="lt-LT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š vi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uta,</a:t>
                      </a:r>
                      <a:br>
                        <a:rPr sz="900"/>
                      </a:br>
                      <a:r>
                        <a:rPr b="1" lang="lt-LT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š vi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ministraci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,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,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,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3,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drabuči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534,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.735,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18,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143,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352,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.878,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bliotek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6,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6,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6,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,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2,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mijos 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8,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,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3,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4,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8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9,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konomikos 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,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,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,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-studiju ir Egzaminavimo centr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6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ologijos 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,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,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,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,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1,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36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osofijos 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,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1,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3,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3,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,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40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zikos 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,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,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8,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,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0,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54,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36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mtos mokslų 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1,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,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,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0,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4,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orijos 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T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,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,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,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TC interneto klasė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,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6,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os centr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89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U organizacijos (VUSA, Leidykla,.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,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,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,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acijos 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,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5,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,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yčių studijų centr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os ir informatikos 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73,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00,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27,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35,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01,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36,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9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os ir informatikos f. G R I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37,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,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84,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46,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35,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89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inos 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6,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4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7,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89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ulėtekio informacinis centr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89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ikatos ir sporto centr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,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89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isės 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orines fizikos ir astronomijos institu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64,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,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20,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4,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85,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87,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54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PM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,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89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žsienio kalbų institu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89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Į VU Studentų investici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U Botanikos so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,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U CS &amp; VP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3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,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2,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1,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3,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33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U darbuotoj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,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89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U serveri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05,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44,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87,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03,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92,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48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89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U Tarptautinio verslo mokyk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,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,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,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2,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9,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89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U Teisės klinik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š vi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520,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.004,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573,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450,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094,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.481,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U ligoninės Santariškių klinik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2,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67,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07,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64,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89,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31,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U ligoninės Žalgirio klinik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,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,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,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U Onkologijos institu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,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,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6,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U Vaikų ligonin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,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,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7,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oninės iš vi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2,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13,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84,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57,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57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70,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š vi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492,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.517,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158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208,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651,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.752,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Situacija VU šiandi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Universiteto 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rtvarka (judėjimas VšĮ link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Reglamentų (tvarkų, taisyklių, nuostatų ir pan.) atnaujinimas, trūkstamų kūr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Tinklo resursų naudojimo tvarkos griežtinim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Tvarkos griežtinimo priežast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Kompetencijos ribų perženg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Baudžiamosios veik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Netikę komentar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Neteisėtai įgytų daiktų platini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Netinkamo turinio el.laišk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Autorių teisių pažeidim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Kenkėjiška veikla dėl virus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Informacijos gavimo šaltinia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Iš užsieni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Calibri"/>
              </a:rPr>
              <a:t>Advokatų kontoros, Autorių teises saugančios įstaig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Calibri"/>
              </a:rPr>
              <a:t>Atakuojamų serverių administratoria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Calibri"/>
              </a:rPr>
              <a:t>Individualūs asmen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Iš L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Calibri"/>
              </a:rPr>
              <a:t>CERT tarnyb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Calibri"/>
              </a:rPr>
              <a:t>Atakuojamų serverių administratoria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Calibri"/>
              </a:rPr>
              <a:t>Individualūs asmen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VU vidinia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Calibri"/>
              </a:rPr>
              <a:t>Tinklo stebėjimo sistemos (TS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Calibri"/>
              </a:rPr>
              <a:t>Administratorių pranešima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Inf.šaltiniai</a:t>
            </a: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Pažeidimai</a:t>
            </a: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Iš užsieni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libri"/>
              </a:rPr>
              <a:t>Advokatų kontoros, Autorių teises saugančios įstaigo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libri"/>
              </a:rPr>
              <a:t>Atakuojamų serverių administratoria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libri"/>
              </a:rPr>
              <a:t>Individualūs asmeny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Iš L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libri"/>
              </a:rPr>
              <a:t>CERT tarnybo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libri"/>
              </a:rPr>
              <a:t>Atakuojamų serverių administratoria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libri"/>
              </a:rPr>
              <a:t>Individualūs asmeny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VU vidiniai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libri"/>
              </a:rPr>
              <a:t>Tinklo stebėjimo sistemos (TS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libri"/>
              </a:rPr>
              <a:t>Administratorių pranešima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Kompetencijos ribų peržengim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Baudžiamosios veik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libri"/>
              </a:rPr>
              <a:t>Netikę komentara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libri"/>
              </a:rPr>
              <a:t>Neteisėtai įgytų daiktų platinim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libri"/>
              </a:rPr>
              <a:t>Netinkamo turinio el.laiška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libri"/>
              </a:rPr>
              <a:t>K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Autorių teisių pažeidima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Kenkėjiška veikla dėl virus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Priemonė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T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Nagios, Cac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VU CERT 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LKT saugumo priemonė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HoneyB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Sisteminiai žurnalai </a:t>
            </a:r>
            <a:r>
              <a:rPr b="0" lang="lt-LT" sz="2000" spc="-1" strike="noStrike">
                <a:solidFill>
                  <a:srgbClr val="000000"/>
                </a:solidFill>
                <a:latin typeface="Calibri"/>
              </a:rPr>
              <a:t>(saugoti 7 mėn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IPv4 naujas blokas, IPv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roxy </a:t>
            </a:r>
            <a:r>
              <a:rPr b="0" lang="lt-LT" sz="2000" spc="-1" strike="noStrike">
                <a:solidFill>
                  <a:srgbClr val="000000"/>
                </a:solidFill>
                <a:latin typeface="Calibri"/>
              </a:rPr>
              <a:t>(nebepalaikoma, planuojama išjungt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Informacija LKT administratori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tinklas.vu.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Naujienlaiškiai </a:t>
            </a:r>
            <a:r>
              <a:rPr b="0" i="1" lang="lt-LT" sz="2400" spc="-1" strike="noStrike">
                <a:solidFill>
                  <a:srgbClr val="ff0000"/>
                </a:solidFill>
                <a:latin typeface="Calibri"/>
              </a:rPr>
              <a:t>(Ne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9:28:52Z</dcterms:created>
  <dc:creator>Aurelija</dc:creator>
  <dc:description/>
  <dc:language>en-US</dc:language>
  <cp:lastModifiedBy>Aurelija</cp:lastModifiedBy>
  <dcterms:modified xsi:type="dcterms:W3CDTF">2011-06-21T08:15:01Z</dcterms:modified>
  <cp:revision>29</cp:revision>
  <dc:subject/>
  <dc:title>VU kompiuterių tinklas ir jo administravimas</dc:title>
</cp:coreProperties>
</file>