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B086-BB3D-4B0B-B630-B496A3EA2676}" type="slidenum">
              <a:rPr b="0" lang="lt-L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C5BA-367B-4EAA-AAE9-26C951CC0B7F}" type="slidenum">
              <a:rPr b="0" lang="lt-L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0BDE-C327-40E1-8268-214C510B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1778-D34B-4138-BFDF-AE240494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6F96-F5FF-409F-AA11-FA7BDE26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4CDB-9BA0-4DA4-AFEE-C929C57E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E1E6-DCC9-480B-917E-368C48BB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684-F848-4315-A2B7-C207D7EB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151-99BA-43BC-9B2E-DB3E55D0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AADD-5389-4C41-811C-6CF38C51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2C05-0A21-486E-A477-30DBCEAF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0197-69A6-4B6B-B6BE-630DC646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372-B231-4551-9AAC-D20BDCCA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EA95-9844-46A3-9B3C-E2744E75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0F35-6748-4E3D-9BE3-0DC17DAB239A}" type="datetime">
              <a:rPr b="0" lang="lt-LT" sz="1200" spc="-1" strike="noStrike">
                <a:solidFill>
                  <a:srgbClr val="898989"/>
                </a:solidFill>
                <a:latin typeface="Calibri"/>
              </a:rPr>
              <a:t>2026 metų liepos mėnesio 31 diena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F5CA-7C96-4A4F-B82F-588AF3068DED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642760"/>
            <a:ext cx="777240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Apklausos apie ITTC teikiam</a:t>
            </a:r>
            <a:r>
              <a:rPr b="0" lang="lt-LT" sz="4400" spc="-1" strike="noStrike">
                <a:solidFill>
                  <a:srgbClr val="c00000"/>
                </a:solidFill>
                <a:latin typeface="Calibri"/>
              </a:rPr>
              <a:t>ų IT paslaugų kokybę</a:t>
            </a:r>
            <a:br>
              <a:rPr sz="4400"/>
            </a:b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Tyrimo ataskai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:\Users\Mindaugas\Desktop\DARBAS\ITTC.VU.LT\ittc-logo.jpg"/>
          <p:cNvPicPr/>
          <p:nvPr/>
        </p:nvPicPr>
        <p:blipFill>
          <a:blip r:embed="rId1"/>
          <a:stretch/>
        </p:blipFill>
        <p:spPr>
          <a:xfrm>
            <a:off x="214200" y="428760"/>
            <a:ext cx="1857600" cy="639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Mindaugas\Desktop\DARBAS\ITTC.VU.LT\sp_VU_zenklas.png"/>
          <p:cNvPicPr/>
          <p:nvPr/>
        </p:nvPicPr>
        <p:blipFill>
          <a:blip r:embed="rId2"/>
          <a:stretch/>
        </p:blipFill>
        <p:spPr>
          <a:xfrm>
            <a:off x="7500960" y="209520"/>
            <a:ext cx="1095480" cy="1219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8"/>
          <p:cNvSpPr/>
          <p:nvPr/>
        </p:nvSpPr>
        <p:spPr>
          <a:xfrm>
            <a:off x="2214720" y="279360"/>
            <a:ext cx="471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Informacinių technologij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taikymo cent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1881360" y="6000840"/>
            <a:ext cx="54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alibri"/>
              </a:rPr>
              <a:t>Marijus Jurgutis, Mindaugas Girdvainis, Arminas Grigon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c00000"/>
                </a:solidFill>
                <a:latin typeface="Calibri"/>
              </a:rPr>
              <a:t>Studentų atsakyma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123840" y="135000"/>
            <a:ext cx="109044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Mindaugas\Desktop\wpp\vaikiukas_spalvotom_rankytem_1920x1080.jpg"/>
          <p:cNvPicPr/>
          <p:nvPr/>
        </p:nvPicPr>
        <p:blipFill>
          <a:blip r:embed="rId2"/>
          <a:stretch/>
        </p:blipFill>
        <p:spPr>
          <a:xfrm>
            <a:off x="428760" y="171468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12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Calibri"/>
              </a:rPr>
              <a:t>Kurias iš žemiau pateiktų ITTC teikiamų IT paslaugų žinote, kuriomis naudojatės ir kaip vertinate jų kokybę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1000080"/>
          <a:ext cx="9144000" cy="5857920"/>
        </p:xfrm>
        <a:graphic>
          <a:graphicData uri="http://schemas.openxmlformats.org/drawingml/2006/table">
            <a:tbl>
              <a:tblPr/>
              <a:tblGrid>
                <a:gridCol w="3643200"/>
                <a:gridCol w="1071720"/>
                <a:gridCol w="1071360"/>
                <a:gridCol w="1071720"/>
                <a:gridCol w="1143000"/>
                <a:gridCol w="1143000"/>
              </a:tblGrid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slau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žina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sinau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1" lang="lt-L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j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kybė pra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kybė vidutiniš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kybė g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ktroninis pašta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9) 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46) 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68) 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19) 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265) 3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inio elektroninio susirašinėjimo paslauga (Elektroninės konferencijos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71) 2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341) 4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4) 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70) 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97) 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cinė sistem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1) 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5) 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44) 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44) 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347) 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eiga prie interneto (padalinio, kuriame studijuoju, auditorijose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56) 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38) 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57) 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200) 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55) 2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ROAM – bevielio tinklo (interneto) prieig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26) 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303) 4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36) 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94) 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46) 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TC Bendro naudojimo kompiuterių sal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93) 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224) 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53) 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79) 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56) 2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U VPN – virtualus privatus tinkl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65) 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300) 4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8) 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77) 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24) 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ų VU tinkle registras (problemų registruojamos elektroniniu būdu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50) 3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342) 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8) 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41) 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43) 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Calibri"/>
              </a:rPr>
              <a:t>Kur dažniausiai ieškote informacijos apie IT paslaugas VU? (Pažymėkite ne daugiau kaip tris atsakym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ooter Placeholder 3"/>
          <p:cNvSpPr/>
          <p:nvPr/>
        </p:nvSpPr>
        <p:spPr>
          <a:xfrm>
            <a:off x="142920" y="6357960"/>
            <a:ext cx="109044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hart 5" descr=""/>
          <p:cNvPicPr/>
          <p:nvPr/>
        </p:nvPicPr>
        <p:blipFill>
          <a:blip r:embed="rId2"/>
          <a:stretch/>
        </p:blipFill>
        <p:spPr>
          <a:xfrm>
            <a:off x="-6480" y="920880"/>
            <a:ext cx="9156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c00000"/>
                </a:solidFill>
                <a:latin typeface="Calibri"/>
              </a:rPr>
              <a:t>Ar lengvai randate reikiamą informaciją apie ITTC teikiamas IT paslaugas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142920" y="6357960"/>
            <a:ext cx="109044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hart 5" descr=""/>
          <p:cNvPicPr/>
          <p:nvPr/>
        </p:nvPicPr>
        <p:blipFill>
          <a:blip r:embed="rId2"/>
          <a:stretch/>
        </p:blipFill>
        <p:spPr>
          <a:xfrm>
            <a:off x="-6480" y="993600"/>
            <a:ext cx="915696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c00000"/>
                </a:solidFill>
                <a:latin typeface="Calibri"/>
              </a:rPr>
              <a:t>Įvertinkite informacijos apie ITTC teikiamas IT paslaugas išsamum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642960"/>
          <a:ext cx="9144000" cy="6167520"/>
        </p:xfrm>
        <a:graphic>
          <a:graphicData uri="http://schemas.openxmlformats.org/drawingml/2006/table">
            <a:tbl>
              <a:tblPr/>
              <a:tblGrid>
                <a:gridCol w="3381480"/>
                <a:gridCol w="1666800"/>
                <a:gridCol w="1380960"/>
                <a:gridCol w="1357560"/>
                <a:gridCol w="135720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slau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ie šią paslaugą nieko nežina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formacija neišs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formacija vidutiniškai išs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formacija išs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ktroninis pašta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0) 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52) 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68) 3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338) 4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inio elektroninio susirašinėjimo paslauga (Elektroninės konferencijos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363)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24) 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20) 1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74) 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cinė sistem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53) 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66) 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36) 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323) 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eiga prie interneto (padalinio, kuriame studijuoju, auditorijose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36) 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52) 2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202) 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90) 2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ROAM – bevielio tinklo (interneto) prieig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263) 3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68) 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52) 2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99) 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TC Bendro naudojimo kompiuterių sal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197) 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08) 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80) 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199) 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2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U VPN – virtualus privatus tinklas (galimybė naudotis užsienio šalių mokslinėmis duomenų bazėmis iš namų ir kita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297) 4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57) 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23) 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09) 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ų VU tinkle registras (problemų registruojamos elektroniniu būdu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434) 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11) 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86) 1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51) 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:\wpp\rodykles_1920x1080.jpg"/>
          <p:cNvPicPr/>
          <p:nvPr/>
        </p:nvPicPr>
        <p:blipFill>
          <a:blip r:embed="rId1"/>
          <a:stretch/>
        </p:blipFill>
        <p:spPr>
          <a:xfrm>
            <a:off x="-142884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43280" y="2643120"/>
            <a:ext cx="314352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6000" spc="-1" strike="noStrike">
                <a:solidFill>
                  <a:srgbClr val="c00000"/>
                </a:solidFill>
                <a:latin typeface="Calibri"/>
              </a:rPr>
              <a:t>IŠVAD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Calibri"/>
              </a:rPr>
              <a:t>Darbuotojų apklausos išv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7858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Daugiau nei 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% ne</a:t>
            </a: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žino arba nesinaudoja naudotojų aptarnavimo grupės paslaugom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Darbuotojai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</a:t>
            </a: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ugiausiai naudojasi el. pašto ir interneto prieigos paslaugomis, o daugiau nei 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 nesinaudoja EDUROAM, bendro naudojimo kompiuterių sale, problemų VU tinkle registr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Apie daugumą paslaugų informacijos nepakank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Darbuotojai dažniausiai informacijos apie IT paslaugas pasiklausia kolegų arba ieško ITTC tinklalapiuo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Ieškodami informacijos darbuotojai apie kai kurias paslaugas informaciją randą lengvai, apie kai kurias sunkia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142920" y="6357960"/>
            <a:ext cx="109044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480"/>
            <a:ext cx="822960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Calibri"/>
              </a:rPr>
              <a:t>Studentų apklausos išv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85716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Daugiau nei 8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% ne</a:t>
            </a: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žino arba nesinaudoja naudotojų aptarnavimo grupės paslaugom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Studentai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</a:t>
            </a: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ugiausiai naudojasi el. pašto ir informacinės sistemos paslaugomis, o daugiau nei 4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 nesinaudoja EDUROAM, VU VPN, problemų VU tinkle registru ir elektroninėmis konferencijom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Apie daugumą paslaugų informacijos nepakank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Darbuotojai dažniausiai informacijos apie IT paslaugas pasiklausia kolegų arba ieško VU pagrindiniame tinklalapyj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Ieškodami informacijos studentai apie kai kurias paslaugas informaciją randą lengvai, apie kai kurias sunkia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oter Placeholder 3"/>
          <p:cNvSpPr/>
          <p:nvPr/>
        </p:nvSpPr>
        <p:spPr>
          <a:xfrm>
            <a:off x="142920" y="6357960"/>
            <a:ext cx="109044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Darbuotoj</a:t>
            </a:r>
            <a:r>
              <a:rPr b="0" lang="lt-LT" sz="2800" spc="-1" strike="noStrike">
                <a:solidFill>
                  <a:srgbClr val="c00000"/>
                </a:solidFill>
                <a:latin typeface="Calibri"/>
              </a:rPr>
              <a:t>ų ir studentų pasiūlymai bei nuomonės apie ITTC teikiamas paslaugas (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1280" y="999720"/>
            <a:ext cx="90014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libri"/>
              </a:rPr>
              <a:t>Galimybė prašymus pildyti ir siųsti elektroniniu bū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libri"/>
              </a:rPr>
              <a:t>Per mažai vietos el. paš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libri"/>
              </a:rPr>
              <a:t>Naudoti atviro kodo programinę įrang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libri"/>
              </a:rPr>
              <a:t>Nesuderinamumas su moderniomis interneto naršyklėm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libri"/>
              </a:rPr>
              <a:t>Prasta EDUROAM paslaugos kokybė: yra nedaug vietų, kuriose galima prie jo prisijungti, sudėtingas pirmasis prisijungi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libri"/>
              </a:rPr>
              <a:t>Pasenusi kompiuterinė įranga, kuria turi dirbti student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libri"/>
              </a:rPr>
              <a:t>Naujiems darbuotojams nėra pateikiamas VU IT paslaugų aprašas/ atmintin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libri"/>
              </a:rPr>
              <a:t>Informuoti apie gautas naujas programinės įrangos versij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142920" y="6357960"/>
            <a:ext cx="109044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142920" y="6357960"/>
            <a:ext cx="109044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Darbuotoj</a:t>
            </a:r>
            <a:r>
              <a:rPr b="0" lang="lt-LT" sz="2800" spc="-1" strike="noStrike">
                <a:solidFill>
                  <a:srgbClr val="c00000"/>
                </a:solidFill>
                <a:latin typeface="Calibri"/>
              </a:rPr>
              <a:t>ų ir studentų pasiūlymai bei nuomonės apie ITTC teikiamas paslaugas (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1280" y="999720"/>
            <a:ext cx="90014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cin</a:t>
            </a:r>
            <a:r>
              <a:rPr b="0" lang="lt-LT" sz="2800" spc="-1" strike="noStrike">
                <a:solidFill>
                  <a:srgbClr val="000000"/>
                </a:solidFill>
                <a:latin typeface="Calibri"/>
              </a:rPr>
              <a:t>ė sistema galėtų būti lankstesnė ir funkcionalesn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libri"/>
              </a:rPr>
              <a:t>Bent keli atviri bevielės prieigos tašk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libri"/>
              </a:rPr>
              <a:t>Gauti laiškus arba SMS žinutes, kai į IS įvedami egzaminų įvertinim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Tyrimo tiks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Calibri"/>
              </a:rPr>
              <a:t>Ištirti, kaip VU bendruomenės nariai </a:t>
            </a:r>
            <a:r>
              <a:rPr b="1" lang="lt-LT" sz="3600" spc="-1" strike="noStrike">
                <a:solidFill>
                  <a:srgbClr val="000000"/>
                </a:solidFill>
                <a:latin typeface="Calibri"/>
              </a:rPr>
              <a:t>vertina</a:t>
            </a:r>
            <a:r>
              <a:rPr b="0" lang="lt-LT" sz="3600" spc="-1" strike="noStrike">
                <a:solidFill>
                  <a:srgbClr val="000000"/>
                </a:solidFill>
                <a:latin typeface="Calibri"/>
              </a:rPr>
              <a:t> ITTC teikiamų IT paslaugų </a:t>
            </a:r>
            <a:r>
              <a:rPr b="1" lang="lt-LT" sz="3600" spc="-1" strike="noStrike">
                <a:solidFill>
                  <a:srgbClr val="000000"/>
                </a:solidFill>
                <a:latin typeface="Calibri"/>
              </a:rPr>
              <a:t>kokybę</a:t>
            </a:r>
            <a:r>
              <a:rPr b="0" lang="lt-LT" sz="3600" spc="-1" strike="noStrike">
                <a:solidFill>
                  <a:srgbClr val="000000"/>
                </a:solidFill>
                <a:latin typeface="Calibri"/>
              </a:rPr>
              <a:t>, kiek jie </a:t>
            </a:r>
            <a:r>
              <a:rPr b="1" lang="lt-LT" sz="3600" spc="-1" strike="noStrike">
                <a:solidFill>
                  <a:srgbClr val="000000"/>
                </a:solidFill>
                <a:latin typeface="Calibri"/>
              </a:rPr>
              <a:t>žino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t-LT" sz="3600" spc="-1" strike="noStrike">
                <a:solidFill>
                  <a:srgbClr val="000000"/>
                </a:solidFill>
                <a:latin typeface="Calibri"/>
              </a:rPr>
              <a:t>apie šias paslaugas.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142920" y="6357960"/>
            <a:ext cx="109044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4" name="Footer Placeholder 3"/>
          <p:cNvSpPr/>
          <p:nvPr/>
        </p:nvSpPr>
        <p:spPr>
          <a:xfrm>
            <a:off x="142920" y="6357960"/>
            <a:ext cx="1090440" cy="36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:\wpp\ctrl_esc_1920x1200.jpg"/>
          <p:cNvPicPr/>
          <p:nvPr/>
        </p:nvPicPr>
        <p:blipFill>
          <a:blip r:embed="rId3"/>
          <a:stretch/>
        </p:blipFill>
        <p:spPr>
          <a:xfrm>
            <a:off x="-1828800" y="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2844360" y="1434960"/>
            <a:ext cx="3425400" cy="70344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c00000"/>
                </a:solidFill>
                <a:latin typeface="Calibri"/>
              </a:rPr>
              <a:t>Ačiū už dėmesį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C:\Users\Mindaugas\Desktop\DARBAS\ITTC.VU.LT\ittc-logo.jpg"/>
          <p:cNvPicPr/>
          <p:nvPr/>
        </p:nvPicPr>
        <p:blipFill>
          <a:blip r:embed="rId4"/>
          <a:stretch/>
        </p:blipFill>
        <p:spPr>
          <a:xfrm>
            <a:off x="1262160" y="5211720"/>
            <a:ext cx="21207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Footer Placeholder 3"/>
          <p:cNvSpPr/>
          <p:nvPr/>
        </p:nvSpPr>
        <p:spPr>
          <a:xfrm>
            <a:off x="142920" y="6357960"/>
            <a:ext cx="1090440" cy="36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c00000"/>
                </a:solidFill>
                <a:latin typeface="Calibri"/>
              </a:rPr>
              <a:t>Respondentų charakteristik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855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Apklausa atlikta 2009-11-09 – 2009-12-0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Calibri"/>
              </a:rPr>
              <a:t>712 VU studentų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: 8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% -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 nuolatinių studijų, 10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% - i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štęstinių studijų formos, iš jų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8%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 - EF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7%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 - MiF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2% - KF, 8% - FF ir t.t.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 40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% bakalauro 1-2 kurs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 4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% - 3-6 kurs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% - magistrant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ūros ir 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% - tre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čiosios studijų pakopos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Calibri"/>
              </a:rPr>
              <a:t>125 VU darbuotojai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: 2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 – KF, 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%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 – CR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0% MiF,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F –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9%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bei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it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ų fakultetų, iš jų: 4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% -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 dėstytojai, 35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% 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- aptarnaujantis personalas, 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% - padalini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vadov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ų, 1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% - 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padalinių administratorių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142920" y="6357960"/>
            <a:ext cx="109044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15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c00000"/>
                </a:solidFill>
                <a:latin typeface="Calibri"/>
              </a:rPr>
              <a:t>Respondentams 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buvo pateikti </a:t>
            </a:r>
            <a:r>
              <a:rPr b="0" lang="lt-LT" sz="3600" spc="-1" strike="noStrike">
                <a:solidFill>
                  <a:srgbClr val="c00000"/>
                </a:solidFill>
                <a:latin typeface="Calibri"/>
              </a:rPr>
              <a:t>šie klausima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4200" y="1071360"/>
            <a:ext cx="8715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Kurias iš žemiau pateiktų ITTC teikiamų IT paslaugų </a:t>
            </a:r>
            <a:r>
              <a:rPr b="1" lang="lt-LT" sz="2600" spc="-1" strike="noStrike">
                <a:solidFill>
                  <a:srgbClr val="000000"/>
                </a:solidFill>
                <a:latin typeface="Calibri"/>
              </a:rPr>
              <a:t>žinote</a:t>
            </a: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, kuriomis </a:t>
            </a:r>
            <a:r>
              <a:rPr b="1" lang="lt-LT" sz="2600" spc="-1" strike="noStrike">
                <a:solidFill>
                  <a:srgbClr val="000000"/>
                </a:solidFill>
                <a:latin typeface="Calibri"/>
              </a:rPr>
              <a:t>naudojatės</a:t>
            </a: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 ir kaip </a:t>
            </a:r>
            <a:r>
              <a:rPr b="1" lang="lt-LT" sz="2600" spc="-1" strike="noStrike">
                <a:solidFill>
                  <a:srgbClr val="000000"/>
                </a:solidFill>
                <a:latin typeface="Calibri"/>
              </a:rPr>
              <a:t>vertinate</a:t>
            </a: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 jų </a:t>
            </a:r>
            <a:r>
              <a:rPr b="1" lang="lt-LT" sz="2600" spc="-1" strike="noStrike">
                <a:solidFill>
                  <a:srgbClr val="000000"/>
                </a:solidFill>
                <a:latin typeface="Calibri"/>
              </a:rPr>
              <a:t>kokybę</a:t>
            </a: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Kur dažniausiai </a:t>
            </a:r>
            <a:r>
              <a:rPr b="1" lang="lt-LT" sz="2600" spc="-1" strike="noStrike">
                <a:solidFill>
                  <a:srgbClr val="000000"/>
                </a:solidFill>
                <a:latin typeface="Calibri"/>
              </a:rPr>
              <a:t>ieškote</a:t>
            </a: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 informacijos apie IT paslaugas VU? (Pažymėkite ne daugiau kaip tris atsakymu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Ar </a:t>
            </a:r>
            <a:r>
              <a:rPr b="1" lang="lt-LT" sz="2600" spc="-1" strike="noStrike">
                <a:solidFill>
                  <a:srgbClr val="000000"/>
                </a:solidFill>
                <a:latin typeface="Calibri"/>
              </a:rPr>
              <a:t>lengvai</a:t>
            </a: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lt-LT" sz="2600" spc="-1" strike="noStrike">
                <a:solidFill>
                  <a:srgbClr val="000000"/>
                </a:solidFill>
                <a:latin typeface="Calibri"/>
              </a:rPr>
              <a:t>randate</a:t>
            </a: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 reikiamą informaciją apie ITTC teikiamas IT paslauga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Įvertinkite informacijos apie ITTC teikiamas IT paslaugas </a:t>
            </a:r>
            <a:r>
              <a:rPr b="1" lang="lt-LT" sz="2600" spc="-1" strike="noStrike">
                <a:solidFill>
                  <a:srgbClr val="000000"/>
                </a:solidFill>
                <a:latin typeface="Calibri"/>
              </a:rPr>
              <a:t>išsamum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Kokios </a:t>
            </a:r>
            <a:r>
              <a:rPr b="1" lang="lt-LT" sz="2600" spc="-1" strike="noStrike">
                <a:solidFill>
                  <a:srgbClr val="000000"/>
                </a:solidFill>
                <a:latin typeface="Calibri"/>
              </a:rPr>
              <a:t>kitos</a:t>
            </a: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lt-LT" sz="2600" spc="-1" strike="noStrike">
                <a:solidFill>
                  <a:srgbClr val="000000"/>
                </a:solidFill>
                <a:latin typeface="Calibri"/>
              </a:rPr>
              <a:t>IT</a:t>
            </a: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lt-LT" sz="2600" spc="-1" strike="noStrike">
                <a:solidFill>
                  <a:srgbClr val="000000"/>
                </a:solidFill>
                <a:latin typeface="Calibri"/>
              </a:rPr>
              <a:t>paslaugos</a:t>
            </a: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 (be paminėtų), Jūsų nuomone, būtų naudingos Vilniaus universitet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Jūsų </a:t>
            </a:r>
            <a:r>
              <a:rPr b="1" lang="lt-LT" sz="2600" spc="-1" strike="noStrike">
                <a:solidFill>
                  <a:srgbClr val="000000"/>
                </a:solidFill>
                <a:latin typeface="Calibri"/>
              </a:rPr>
              <a:t>pasiūlymai</a:t>
            </a: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lt-LT" sz="2600" spc="-1" strike="noStrike">
                <a:solidFill>
                  <a:srgbClr val="000000"/>
                </a:solidFill>
                <a:latin typeface="Calibri"/>
              </a:rPr>
              <a:t>nuomonės</a:t>
            </a: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 apie ITTC teikiamas paslauga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3"/>
          <p:cNvSpPr/>
          <p:nvPr/>
        </p:nvSpPr>
        <p:spPr>
          <a:xfrm>
            <a:off x="142920" y="6357960"/>
            <a:ext cx="109044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Mindaugas\Desktop\wpp\robotukas_elektriukas_1920x1080.jpg"/>
          <p:cNvPicPr/>
          <p:nvPr/>
        </p:nvPicPr>
        <p:blipFill>
          <a:blip r:embed="rId1"/>
          <a:stretch/>
        </p:blipFill>
        <p:spPr>
          <a:xfrm>
            <a:off x="-1547640" y="0"/>
            <a:ext cx="1219176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56880" y="4928760"/>
            <a:ext cx="5386680" cy="785880"/>
          </a:xfrm>
          <a:prstGeom prst="rect">
            <a:avLst/>
          </a:prstGeom>
          <a:solidFill>
            <a:srgbClr val="ffffff">
              <a:alpha val="70000"/>
            </a:srgbClr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c00000"/>
                </a:solidFill>
                <a:latin typeface="Calibri"/>
              </a:rPr>
              <a:t>Darbuotojų atsakyma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ooter Placeholder 3"/>
          <p:cNvSpPr/>
          <p:nvPr/>
        </p:nvSpPr>
        <p:spPr>
          <a:xfrm>
            <a:off x="142920" y="6357960"/>
            <a:ext cx="1162080" cy="36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71280"/>
            <a:ext cx="88581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c00000"/>
                </a:solidFill>
                <a:latin typeface="Calibri"/>
              </a:rPr>
              <a:t>Kurias iš žemiau pateiktų ITTC teikiamų IT paslaugų žinote, kuriomis naudojatės ir kaip vertinate jų kokybę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857160"/>
          <a:ext cx="9144000" cy="6000840"/>
        </p:xfrm>
        <a:graphic>
          <a:graphicData uri="http://schemas.openxmlformats.org/drawingml/2006/table">
            <a:tbl>
              <a:tblPr/>
              <a:tblGrid>
                <a:gridCol w="4071960"/>
                <a:gridCol w="928800"/>
                <a:gridCol w="1143000"/>
                <a:gridCol w="1000080"/>
                <a:gridCol w="1071360"/>
                <a:gridCol w="928800"/>
              </a:tblGrid>
              <a:tr h="56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slau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žin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sinaudoj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kybė pra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kybė vidutiniš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kybė g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ktroninis pašt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) 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7) 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3)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8) 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65) 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inio elektroninio susirašinėjimo paslauga (Elektroninės konferencijos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8) 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50) 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9) 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3) 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3) 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cinė sistem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5) 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) 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7) 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52) 4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44) 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eto ryšio paslaug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9) 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9) 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5) 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2) 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58) 4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ROAM – bevielio tinklo (interneto) prieig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1) 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64) 5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9) 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7) 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1)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TC Bendro naudojimo kompiuterių salė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0)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74) 5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6) 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0) 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5) 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U VPN – virtualus privatus tinkl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2) 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56) 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8) 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7) 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9) 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U intranet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0) 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43) 3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4) 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3) 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3) 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ų VU tinkle registras (problemos registruojamos elektroniniu būdu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4) 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63) 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7) 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3)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7) 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piuterių programų su universitetinėmis licencijomis naudojim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7) 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7) 2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6) 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3) 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39) 3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dotojų aptarnavimo tarnyba (IT paslaugų paraiškų priėmimas, registravimas ir administravimas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4) 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41) 3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8) 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4) 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4) 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c00000"/>
                </a:solidFill>
                <a:latin typeface="Calibri"/>
              </a:rPr>
              <a:t>Kur dažniausiai ieškote informacijos apie IT paslaugas VU? (Pažymėkite ne daugiau kaip tris atsakymu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ooter Placeholder 3"/>
          <p:cNvSpPr/>
          <p:nvPr/>
        </p:nvSpPr>
        <p:spPr>
          <a:xfrm>
            <a:off x="142920" y="6357960"/>
            <a:ext cx="109044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hart 5" descr=""/>
          <p:cNvPicPr/>
          <p:nvPr/>
        </p:nvPicPr>
        <p:blipFill>
          <a:blip r:embed="rId2"/>
          <a:stretch/>
        </p:blipFill>
        <p:spPr>
          <a:xfrm>
            <a:off x="-6480" y="993600"/>
            <a:ext cx="915696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604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c00000"/>
                </a:solidFill>
                <a:latin typeface="Calibri"/>
              </a:rPr>
              <a:t>Ar lengvai randate reikiamą informaciją apie ITTC teikiamas IT paslaugas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Footer Placeholder 3"/>
          <p:cNvSpPr/>
          <p:nvPr/>
        </p:nvSpPr>
        <p:spPr>
          <a:xfrm>
            <a:off x="142920" y="6357960"/>
            <a:ext cx="109044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hart 6" descr=""/>
          <p:cNvPicPr/>
          <p:nvPr/>
        </p:nvPicPr>
        <p:blipFill>
          <a:blip r:embed="rId2"/>
          <a:stretch/>
        </p:blipFill>
        <p:spPr>
          <a:xfrm>
            <a:off x="-6480" y="1066680"/>
            <a:ext cx="9156960" cy="54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c00000"/>
                </a:solidFill>
                <a:latin typeface="Calibri"/>
              </a:rPr>
              <a:t>Įvertinkite informacijos apie ITTC teikiamas IT paslaugas išsamum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642960"/>
          <a:ext cx="9144000" cy="6215040"/>
        </p:xfrm>
        <a:graphic>
          <a:graphicData uri="http://schemas.openxmlformats.org/drawingml/2006/table">
            <a:tbl>
              <a:tblPr/>
              <a:tblGrid>
                <a:gridCol w="4857840"/>
                <a:gridCol w="1285920"/>
                <a:gridCol w="1071360"/>
                <a:gridCol w="1071720"/>
                <a:gridCol w="857160"/>
              </a:tblGrid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slau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ie šią paslaugą nieko nežin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formacija neišsa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formacija vidutiniškai išsa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forma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1" lang="lt-L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ja išsa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ktroninis pašt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5) 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5) 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5) 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74) 5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inio elektroninio susirašinėjimo paslauga (Elektroninės konferencijos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8) 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5) 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37) 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2) 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cinė sistem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0)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5) 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49) 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42) 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eto ryšio paslaug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0) 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7) 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5) 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44) 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ROAM – bevielio tinklo (interneto) prieig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41) 3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6) 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7) 2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5) 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TC Bendro naudojimo kompiuterių salė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46) 3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4) 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6) 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4) 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U VPN – virtualus privatus tinklas (galimybė naudotis užsienio šalių mokslinėmis duomenų bazėmis iš namų ir kita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34) 2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7) 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5) 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35) 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U intranet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40) 3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9)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7) 2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7) 2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ų VU tinkle registras (problemos registruojamos elektroniniu būdu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51) 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1) 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5) 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3)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piuterių programų su universitetinėmis licencijomis naudojim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8) 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8) 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31) 2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7) 2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dotojų aptarnavimo tarnyba (IT paslaugų paraiškų priėmimas, registravimas ir administravimas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48) 3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1) 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9) 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4) 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0:26:41Z</dcterms:created>
  <dc:creator>Mindaugas</dc:creator>
  <dc:description/>
  <dc:language>en-US</dc:language>
  <cp:lastModifiedBy>maju</cp:lastModifiedBy>
  <dcterms:modified xsi:type="dcterms:W3CDTF">2009-12-14T11:55:01Z</dcterms:modified>
  <cp:revision>87</cp:revision>
  <dc:subject/>
  <dc:title>Slide 1</dc:title>
</cp:coreProperties>
</file>