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9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5.jpeg" ContentType="image/jpeg"/>
  <Override PartName="/ppt/media/image2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BE9-E0FF-4A1A-89EC-D7653169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A – antivirusin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ė ir antispaminė kontrol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Forward – negalime garantuoti pristatymo, kai perpildyta dėžutė, neveikia gavėjo serveris, baigė galioti ad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F87-F1D5-40BB-8406-BB2CFA3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796-FDEF-4354-B5F7-1399F6A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02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8B9-F734-49AC-8981-839A760B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480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800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480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800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C7C-7C8C-4E33-BDFE-EF7F417A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D5B1-1C63-456B-9794-076248F8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2AB0-67C7-4ECA-93ED-A9FB9A3E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FD5-5FCE-491C-A88A-BA6B9E5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F60C-B8D5-4360-8F6E-AB00260D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2E2-113D-4659-8296-1F41DFD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29A-E067-435C-8931-D3AD941A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F462-5E93-4EB0-92DD-5D6FA63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AB0-93EF-4112-82D2-737B5D63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202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D16-A7C3-4F11-9C24-B8515B8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E51B-1EA8-4DE1-A1F2-AFBCC59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9B32-6711-4E86-B340-4AB1864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202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E3B9-66DD-45CE-9190-C1273EE7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480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1800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480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1800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511D-782C-40F2-A60A-CE1D09B1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5A0-6F70-4AC6-BBBF-A6B5B873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6AF-0599-4E0A-AA86-6A380A58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B4E-EF15-4C50-91EF-763A667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AE2-C6C4-4402-AB06-5283E83A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031-8000-42A2-8039-C0E64E8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02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A17-FCA3-4D10-A401-57201CD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02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46B-1AE7-44A2-ABEF-BAD43B8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08E-5A48-47BD-BC58-F92E1AF2B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ulogo" descr=""/>
          <p:cNvPicPr/>
          <p:nvPr/>
        </p:nvPicPr>
        <p:blipFill>
          <a:blip r:embed="rId2"/>
          <a:stretch/>
        </p:blipFill>
        <p:spPr>
          <a:xfrm>
            <a:off x="92160" y="0"/>
            <a:ext cx="10634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1143000"/>
          <a:ext cx="1447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144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800" y="2801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399-31C8-42BC-84B4-2E13C0E0A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vulogo" descr=""/>
          <p:cNvPicPr/>
          <p:nvPr/>
        </p:nvPicPr>
        <p:blipFill>
          <a:blip r:embed="rId2"/>
          <a:stretch/>
        </p:blipFill>
        <p:spPr>
          <a:xfrm>
            <a:off x="92160" y="0"/>
            <a:ext cx="10634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0" y="1143000"/>
          <a:ext cx="1447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144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800" y="2801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6520" y="3886200"/>
            <a:ext cx="1371600" cy="101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048120" y="3886200"/>
            <a:ext cx="1371600" cy="10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4419720" y="3886200"/>
            <a:ext cx="1371600" cy="10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5791320" y="3886200"/>
            <a:ext cx="1371600" cy="1014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vu.lt/" TargetMode="External"/><Relationship Id="rId2" Type="http://schemas.openxmlformats.org/officeDocument/2006/relationships/hyperlink" Target="http://www.vda.lt/" TargetMode="External"/><Relationship Id="rId3" Type="http://schemas.openxmlformats.org/officeDocument/2006/relationships/hyperlink" Target="http://www.vgtu.lt/" TargetMode="External"/><Relationship Id="rId4" Type="http://schemas.openxmlformats.org/officeDocument/2006/relationships/hyperlink" Target="http://www.vu.lt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da.lt/" TargetMode="External"/><Relationship Id="rId2" Type="http://schemas.openxmlformats.org/officeDocument/2006/relationships/hyperlink" Target="http://www.vgtu.lt/" TargetMode="External"/><Relationship Id="rId3" Type="http://schemas.openxmlformats.org/officeDocument/2006/relationships/hyperlink" Target="http://www.vu.lt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u.lt/" TargetMode="External"/><Relationship Id="rId2" Type="http://schemas.openxmlformats.org/officeDocument/2006/relationships/hyperlink" Target="http://www.vda.lt/" TargetMode="External"/><Relationship Id="rId3" Type="http://schemas.openxmlformats.org/officeDocument/2006/relationships/hyperlink" Target="http://www.vgtu.lt/" TargetMode="External"/><Relationship Id="rId4" Type="http://schemas.openxmlformats.org/officeDocument/2006/relationships/hyperlink" Target="http://www.vu.lt/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da.lt/" TargetMode="External"/><Relationship Id="rId2" Type="http://schemas.openxmlformats.org/officeDocument/2006/relationships/hyperlink" Target="http://www.vgtu.lt/" TargetMode="External"/><Relationship Id="rId3" Type="http://schemas.openxmlformats.org/officeDocument/2006/relationships/hyperlink" Target="http://www.vu.lt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vu.lt/" TargetMode="External"/><Relationship Id="rId2" Type="http://schemas.openxmlformats.org/officeDocument/2006/relationships/hyperlink" Target="http://www.vda.lt/" TargetMode="External"/><Relationship Id="rId3" Type="http://schemas.openxmlformats.org/officeDocument/2006/relationships/hyperlink" Target="http://www.vgtu.lt/" TargetMode="External"/><Relationship Id="rId4" Type="http://schemas.openxmlformats.org/officeDocument/2006/relationships/hyperlink" Target="http://www.vu.lt/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da.lt/" TargetMode="External"/><Relationship Id="rId2" Type="http://schemas.openxmlformats.org/officeDocument/2006/relationships/hyperlink" Target="http://www.vgtu.lt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Vardenis.Pavardenis@%5Bpad_k%5D.vu.lt" TargetMode="External"/><Relationship Id="rId2" Type="http://schemas.openxmlformats.org/officeDocument/2006/relationships/hyperlink" Target="mailto:Vardenis.Pavardenis@%5Bpad_k%5D.vu.lt" TargetMode="External"/><Relationship Id="rId3" Type="http://schemas.openxmlformats.org/officeDocument/2006/relationships/hyperlink" Target="mailto:Vardenis.Pavardenis@%5Bpad_k%5D.vu.lt" TargetMode="External"/><Relationship Id="rId4" Type="http://schemas.openxmlformats.org/officeDocument/2006/relationships/hyperlink" Target="mailto:Vardenis.Pavardenis@%5Bpad_k%5D.vu.lt" TargetMode="External"/><Relationship Id="rId5" Type="http://schemas.openxmlformats.org/officeDocument/2006/relationships/hyperlink" Target="mailto:Vardenis.Pavardenis@%5Bpad_k%5D.vu.lt" TargetMode="External"/><Relationship Id="rId6" Type="http://schemas.openxmlformats.org/officeDocument/2006/relationships/hyperlink" Target="mailto:Vardenis.Pavardenis@%5Bpad_k%5D.stud.vu.lt" TargetMode="External"/><Relationship Id="rId7" Type="http://schemas.openxmlformats.org/officeDocument/2006/relationships/hyperlink" Target="mailto:Vardenis.Pavardenis@%5Bpad_k%5D.stud.vu.lt" TargetMode="External"/><Relationship Id="rId8" Type="http://schemas.openxmlformats.org/officeDocument/2006/relationships/hyperlink" Target="mailto:Vardenis.Pavardenis@%5Bpad_k%5D.stud.vu.lt" TargetMode="External"/><Relationship Id="rId9" Type="http://schemas.openxmlformats.org/officeDocument/2006/relationships/hyperlink" Target="mailto:Vardenis.Pavardenis@%5Bpad_k%5D.stud.vu.lt" TargetMode="External"/><Relationship Id="rId10" Type="http://schemas.openxmlformats.org/officeDocument/2006/relationships/hyperlink" Target="mailto:Vardenis.Pavardenis@%5Bpad_k%5D.stud.vu.lt" TargetMode="External"/><Relationship Id="rId11" Type="http://schemas.openxmlformats.org/officeDocument/2006/relationships/hyperlink" Target="mailto:Vardenis.Pavardenis@%5Borg_domain" TargetMode="External"/><Relationship Id="rId12" Type="http://schemas.openxmlformats.org/officeDocument/2006/relationships/hyperlink" Target="mailto:Vardenis.Pavardenis@%5Borg_domain" TargetMode="External"/><Relationship Id="rId13" Type="http://schemas.openxmlformats.org/officeDocument/2006/relationships/hyperlink" Target="mailto:Vardenis.Pavardenis@%5Borg_domain" TargetMode="External"/><Relationship Id="rId1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ų plėt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ilniau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9625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jus Jurgu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imantas Kut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elija Gefenien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Daiva Šimkūnien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Ričardas Sabaliausk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El.konferencijo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057400" y="1600200"/>
          <a:ext cx="5942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00200"/>
                    <a:ext cx="5942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A01-7DE0-4CC9-851F-B100C6BD0B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Sieki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-12-09 TERENA seminaras “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mprov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 el.p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stem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s kokybė atitinka Europos akademinių institucijų teikiamų el.pašto paslaugų kokyb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U galėtų ir turėtų dalyvauti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TEREN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iniciatyvoje, pagal kurią didieji universitetai skatinami teikti kokybišką el.pašto paslaugą mažesnėms akademinėms institucij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U kaip viena pagrindinių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institucijų, galėtų įsijungti į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TEREN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veiklą, skirtą el.pašto kokybės gerinim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m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akademinėms institucijoms ski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“b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osiu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” ir “ju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osiu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” sąra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ite Listing and Black Li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r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šioje veikloje bendradarbia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su kita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niversiteta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e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kademiniais tink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151-63EB-4665-B8B3-0797C4851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71600" y="144792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VD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VG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D7E-F8C2-487B-98DC-BA6C71418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L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Visi VU padali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VU L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KT administratori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kylančios probl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per dideli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kai kurių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KT administratori</a:t>
            </a: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ų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arbo kr</a:t>
            </a: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ū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nepakankama kai kurių LKT administratorių  kvalif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nepakankamas LKT administratorių dėmesys tinklo saugum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6B6-A243-4B5A-818C-D1EF3F9F01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144792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VD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VG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V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59E-217E-44C6-A7DA-D1C22ABC8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 DNS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server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stem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autoritetini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rv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žklausų išsprendimui (CR ir IT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gistruo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antro lygio domen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9 tr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čio lyg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mena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reversini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men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 DNS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ypatyb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ikimas sprendimas, atitinkantis RIPE reikalavi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08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atnaujinta serverinė įrang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pakeist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. serveria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1E4-71E8-4111-9CAA-8FFC2243F6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71600" y="137160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VD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VG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D00-B3DE-47C5-9422-59C0A80BE4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kompiuterių tink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s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 AS leidžia efektyviau valdyti ir administruoti VU tinklą, naudoti ir administruoti šiai AS priklausančiu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P admini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IP adresų rėžiai išskirstyti potinkliams (administruoja LKT administratori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IP skirstomi ir naudojami pagal Europos IP registro RIPE dokumentus (RIPE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4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viesolaidinių magistralių  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tat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WDM technologijų taikymai LKT apjungim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IF Naugarduko g. – Šaltinių g. – Didlauki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VŠĮ “Būstas” bendrabuči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U Kauno humanitarini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ų mokslų fakult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Universiteto radijas “Start F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m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didinant patikimum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gt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žiedas Universiteto 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– Saulėtekio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 – Santar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kių 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m.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auj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nstitutų prijungi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0F3-40E2-4D5E-9D7D-4591F69EF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16360" y="2759040"/>
            <a:ext cx="212580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94520" y="219384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91680" y="194148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0" y="174780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56120" y="21733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9360" y="374508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3080" y="417204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86280" y="471636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43680" y="4929120"/>
            <a:ext cx="15228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77080" y="408636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26400" y="436572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48640" y="463248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26160" y="485604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4200" y="501984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23160" y="515628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9200" y="512460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932440" y="4281480"/>
            <a:ext cx="890640" cy="466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972120" y="4172040"/>
            <a:ext cx="811080" cy="58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6983280" y="4260600"/>
            <a:ext cx="84312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967080" y="4293720"/>
            <a:ext cx="78732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0440" y="4314960"/>
            <a:ext cx="608040" cy="56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3160" y="4321080"/>
            <a:ext cx="366480" cy="687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94360" y="4322880"/>
            <a:ext cx="98640" cy="83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567120" y="4317840"/>
            <a:ext cx="304920" cy="806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11480" y="261792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U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     Universiteto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3120" y="4081320"/>
            <a:ext cx="7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21360" y="4710240"/>
            <a:ext cx="7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78600" y="403380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21440" y="429732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83640" y="463860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77000" y="489744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37520" y="501336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7040" y="518004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05600" y="5238720"/>
            <a:ext cx="7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3520" y="1924200"/>
            <a:ext cx="76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Antakalnio 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72920" y="2303640"/>
            <a:ext cx="69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4120" y="305280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93680" y="2600280"/>
            <a:ext cx="69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19800" y="2840040"/>
            <a:ext cx="7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7600" y="1763640"/>
            <a:ext cx="69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23640" y="1589040"/>
            <a:ext cx="69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97360" y="505296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80240" y="101448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96200" y="123660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4876400">
            <a:off x="5547960" y="65232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76400">
            <a:off x="6036840" y="418680"/>
            <a:ext cx="15264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4876400">
            <a:off x="6613200" y="99360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876400">
            <a:off x="6408360" y="57456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20240" y="99216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51760" y="131904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75440" y="67464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2480" y="6541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35880" y="1343160"/>
            <a:ext cx="509400" cy="4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535880" y="1080720"/>
            <a:ext cx="681120" cy="206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535880" y="803160"/>
            <a:ext cx="45720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472520" y="803160"/>
            <a:ext cx="17928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019920" y="1082160"/>
            <a:ext cx="593640" cy="2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05520" y="707760"/>
            <a:ext cx="428760" cy="33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948280" y="563400"/>
            <a:ext cx="142920" cy="447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662440" y="787320"/>
            <a:ext cx="231840" cy="27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71840" y="134604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ntariškių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49680" y="129528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ntariškių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19600" y="84924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ntariškių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13320" y="63180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ntariškių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83400" y="473040"/>
            <a:ext cx="6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P.Baublio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9640" y="1001880"/>
            <a:ext cx="7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91520" y="77616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78920" y="37476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99680" y="23796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2560" y="75420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3160" y="6257880"/>
            <a:ext cx="744480" cy="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6400" y="5818320"/>
            <a:ext cx="744480" cy="792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03440" y="6029280"/>
            <a:ext cx="744840" cy="7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32880" y="6148440"/>
            <a:ext cx="160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Optinis kabeli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(100-10000 Mbp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24600" y="5904000"/>
            <a:ext cx="207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analas optiniame kabelyje (100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1000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 Mbp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26760" y="5699160"/>
            <a:ext cx="176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Plačiajuostis radi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o kanalas (34 Mbp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1560" y="1852560"/>
            <a:ext cx="7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Goštauto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119480" y="1163520"/>
            <a:ext cx="1803600" cy="68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15160" y="272556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02600" y="263376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86760" y="307512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878600" y="2703600"/>
            <a:ext cx="320760" cy="79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69240" y="2838600"/>
            <a:ext cx="322200" cy="269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2400" y="2800440"/>
            <a:ext cx="1108080" cy="9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34120" y="2946240"/>
            <a:ext cx="642960" cy="123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165360" y="4297320"/>
            <a:ext cx="676440" cy="642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25720" y="2873520"/>
            <a:ext cx="1317960" cy="455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18360" y="2944800"/>
            <a:ext cx="757080" cy="809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84000" y="38512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GTU, Saulėtekio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32520" y="327348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26720" y="443232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GTU, Trakų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197240" y="1341360"/>
            <a:ext cx="3197160" cy="61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28960" y="2312640"/>
            <a:ext cx="690480" cy="336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2924280"/>
            <a:ext cx="804960" cy="108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70120" y="2928960"/>
            <a:ext cx="452520" cy="915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35200" y="2922480"/>
            <a:ext cx="427320" cy="163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873520" y="2917800"/>
            <a:ext cx="44928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840" y="3639960"/>
            <a:ext cx="15228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412720" y="3774960"/>
            <a:ext cx="360360" cy="320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467080" y="3790800"/>
            <a:ext cx="333360" cy="862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820600" y="3789360"/>
            <a:ext cx="28440" cy="736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68360" y="406872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84280" y="465120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4640" y="452448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03840" y="455760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30880" y="373392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11520" y="221616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67200" y="384660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29240" y="2109960"/>
            <a:ext cx="90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C, Katkaus 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07040" y="234936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KI, Antakalnio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13520" y="3051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TK, Oland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ų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45200" y="3254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Olandų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7000" y="3691080"/>
            <a:ext cx="5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Tauro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4520" y="418464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SDK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Tauro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01680" y="4753080"/>
            <a:ext cx="7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1/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81040" y="231768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SDK, Antakalnio 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735680" y="2874960"/>
            <a:ext cx="34920" cy="517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58000" y="33447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V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40200" y="1555920"/>
            <a:ext cx="201600" cy="318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4876400">
            <a:off x="3808080" y="985680"/>
            <a:ext cx="152640" cy="15228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79880" y="138096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T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u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71840" y="812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ant (I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86280" y="1531800"/>
            <a:ext cx="307800" cy="1071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89880" y="130500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T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121200" y="806040"/>
            <a:ext cx="206280" cy="58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4876400">
            <a:off x="3286080" y="653760"/>
            <a:ext cx="152280" cy="15228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0720" y="442800"/>
            <a:ext cx="86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etuvos tinkla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774520" y="801360"/>
            <a:ext cx="268200" cy="58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4876400">
            <a:off x="2684520" y="658440"/>
            <a:ext cx="152280" cy="15228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92720" y="495360"/>
            <a:ext cx="35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4876400">
            <a:off x="4352760" y="202500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03280" y="8920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TU, Panevėž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138480" y="1499760"/>
            <a:ext cx="704880" cy="41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37000" y="2031840"/>
            <a:ext cx="326880" cy="57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73520" y="2922480"/>
            <a:ext cx="828720" cy="657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4876400">
            <a:off x="4584240" y="3557160"/>
            <a:ext cx="15264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95280" y="452268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žioji 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14920" y="2905200"/>
            <a:ext cx="876240" cy="471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4876400">
            <a:off x="4662000" y="336024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18040" y="43308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okiečių 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440" y="2833560"/>
            <a:ext cx="1330200" cy="293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4876400">
            <a:off x="5138280" y="3072960"/>
            <a:ext cx="15264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0360" y="356868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DA, Maironio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17800" y="2800440"/>
            <a:ext cx="1324080" cy="10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4876400">
            <a:off x="5146560" y="285516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50920" y="338148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Maironio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228840" y="2919240"/>
            <a:ext cx="177840" cy="1408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89480" y="2921040"/>
            <a:ext cx="41040" cy="1282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832200" y="2596680"/>
            <a:ext cx="984240" cy="119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4876400">
            <a:off x="3444840" y="421776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4876400">
            <a:off x="4410000" y="399816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3240" y="4017960"/>
            <a:ext cx="8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ŠMM,Volano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16200" y="372888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Bernardinų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2040" y="2830680"/>
            <a:ext cx="73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LKA, Šilo 5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4876400">
            <a:off x="2115720" y="109044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32000" y="1231920"/>
            <a:ext cx="1052640" cy="13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4876400">
            <a:off x="1876320" y="131544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4876400">
            <a:off x="1728360" y="160452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4876400">
            <a:off x="1625760" y="18889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4876400">
            <a:off x="1538280" y="21888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4876400">
            <a:off x="1560600" y="24793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98720" y="1440000"/>
            <a:ext cx="1224000" cy="1163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6320" y="1724040"/>
            <a:ext cx="1324080" cy="906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6240" y="1994040"/>
            <a:ext cx="1435320" cy="666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2297160"/>
            <a:ext cx="15066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1725480" y="2560680"/>
            <a:ext cx="1479600" cy="164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27080" y="23018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KMI, 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Žygimantų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04760" y="200484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, 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Žygimantų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33120" y="170352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B, 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Žygimantų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9880" y="18399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P, 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Gedimino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87000" y="142236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airėnų 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98520" y="1133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K, 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Palydovų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82720" y="314496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360160" y="2792520"/>
            <a:ext cx="8492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794960" y="2832120"/>
            <a:ext cx="420840" cy="6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51200" y="4879800"/>
            <a:ext cx="15228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9560" y="4170240"/>
            <a:ext cx="15228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89000" y="441180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2200" y="458640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39800" y="276228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150640" y="2846520"/>
            <a:ext cx="1057320" cy="87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120320" y="3807000"/>
            <a:ext cx="908280" cy="38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230120" y="3828960"/>
            <a:ext cx="80460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358640" y="3828960"/>
            <a:ext cx="685800" cy="776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585800" y="3849840"/>
            <a:ext cx="463680" cy="923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815840" y="3843360"/>
            <a:ext cx="253800" cy="96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31840" y="3857760"/>
            <a:ext cx="60480" cy="1022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05120" y="2879640"/>
            <a:ext cx="334800" cy="28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84240" y="25858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Šaltinių 1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3080" y="264960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Naugarduko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27240" y="2970360"/>
            <a:ext cx="8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Naugarduko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9360" y="3435480"/>
            <a:ext cx="73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6400" y="3724200"/>
            <a:ext cx="73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00" y="401652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3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6120" y="4300560"/>
            <a:ext cx="73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19400" y="2747880"/>
            <a:ext cx="15228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11320" y="3693960"/>
            <a:ext cx="15228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1180800" y="3452760"/>
            <a:ext cx="834840" cy="2700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19160" y="33498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23320" y="4976640"/>
            <a:ext cx="9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Geležinio vilko 29</a:t>
            </a:r>
            <a:r>
              <a:rPr b="0" lang="lt-LT" sz="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5280" y="252900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1135080" y="3698640"/>
            <a:ext cx="866880" cy="5868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4880" y="36259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9600" y="343692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GPUL, Šiltnamių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06400" y="482436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69880" y="475920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103040" y="3784680"/>
            <a:ext cx="904680" cy="15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52560" y="388620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7760" y="319716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U ŽL, Žalgirio 1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18920" y="461484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TU,Teatro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800" y="4548240"/>
            <a:ext cx="80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5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91280" y="4714920"/>
            <a:ext cx="73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31840" y="4911840"/>
            <a:ext cx="7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Čiurlionio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203800" y="599760"/>
            <a:ext cx="339840" cy="8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389200" y="361440"/>
            <a:ext cx="212760" cy="297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48280" y="51120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84800" y="22212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94520" y="42228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3640" y="13824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Didlaukio 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957920" y="2577600"/>
            <a:ext cx="164880" cy="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24600" y="251316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62760" y="2567160"/>
            <a:ext cx="71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Antakalnio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7600" y="1119240"/>
            <a:ext cx="182520" cy="288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214880" y="1127160"/>
            <a:ext cx="243000" cy="28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4876400">
            <a:off x="4408200" y="97776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14880" y="808200"/>
            <a:ext cx="38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H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18040" y="2590920"/>
            <a:ext cx="612720" cy="328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6840" y="2612880"/>
            <a:ext cx="657000" cy="328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64120" y="2595600"/>
            <a:ext cx="7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aulėtekio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57960" y="224460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578560" y="2252520"/>
            <a:ext cx="280800" cy="5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5970240" y="2279520"/>
            <a:ext cx="176040" cy="317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0880" y="33973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08720" y="2941560"/>
            <a:ext cx="108108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83320" y="3598920"/>
            <a:ext cx="15264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51360" y="3637080"/>
            <a:ext cx="68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Plytinės 17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722920" y="336600"/>
            <a:ext cx="201600" cy="690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9560" y="18252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15200" y="15840"/>
            <a:ext cx="5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erkių 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763800" y="2155320"/>
            <a:ext cx="611280" cy="435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2507760" y="1142640"/>
            <a:ext cx="824040" cy="1446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01920" y="995400"/>
            <a:ext cx="152280" cy="15228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0080" y="797040"/>
            <a:ext cx="77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TEO L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(I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192400" y="2897280"/>
            <a:ext cx="92160" cy="36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98800" y="325908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47760" y="31212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Šaltinių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733560" y="4700520"/>
            <a:ext cx="190440" cy="389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24440" y="4700520"/>
            <a:ext cx="182520" cy="389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33840" y="508176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67360" y="508176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14880" y="515952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ISM, Aušr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artų 7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058280" y="521172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, Didžioji 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711240" y="2925720"/>
            <a:ext cx="723960" cy="83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431640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32920" y="39574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S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Vilniaus 32/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94120" y="1386000"/>
            <a:ext cx="152280" cy="15228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1873080"/>
            <a:ext cx="152640" cy="1526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91040" y="1409760"/>
            <a:ext cx="152280" cy="15228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7826400" y="2346480"/>
            <a:ext cx="212760" cy="366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7916760" y="1896840"/>
            <a:ext cx="144720" cy="290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123400" y="2041200"/>
            <a:ext cx="372960" cy="168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628800" y="1847880"/>
            <a:ext cx="495000" cy="7333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695760" y="1952640"/>
            <a:ext cx="504720" cy="6285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98440" y="5470560"/>
            <a:ext cx="15228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0680" y="5361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6560" y="5446800"/>
            <a:ext cx="199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lniaus universite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9080" y="57150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7280" y="6246720"/>
            <a:ext cx="152280" cy="1526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1160" y="597384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6560" y="5662440"/>
            <a:ext cx="225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Asocijuotos su Vilniaus universitetu institucij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4880" y="5916600"/>
            <a:ext cx="193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itos institucij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6560" y="6202440"/>
            <a:ext cx="154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Kiti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tinkla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19400" y="257652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Universitet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40360" y="2322360"/>
            <a:ext cx="15264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521040" y="2432160"/>
            <a:ext cx="336600" cy="1839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36560" y="2193840"/>
            <a:ext cx="82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Times New Roman"/>
              </a:rPr>
              <a:t>Antakalnio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72040" y="1171440"/>
            <a:ext cx="266760" cy="14385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33840" y="1362240"/>
            <a:ext cx="1095480" cy="12571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10200" y="1143000"/>
            <a:ext cx="1409760" cy="1429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697-443B-4EE1-9053-00AB4AC79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tinklalapių skelb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statyta žiniatinklio resursų skyrimo ir naudojimo tvar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šsami ir aktuali informacija apie tinklalapių skelbimą VU pasiekiama viešai adresu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http://www.tinklas.vu.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U žiniatinklio serveryje skelbia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tinklalapi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6 VU padalin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 VU projek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VU darbuotoj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VU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slo institutų, VŠĮ ir 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m. resursai darbuotoj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 tarnybiniams tinklalap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ndartiniai resursai individualių priemonių naudojim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WordPres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pli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m.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naujinta žiniatinklio serverinė įrang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izuoti web serveriai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, duomenų saugykla, sisteminė programinė įrang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85E-6953-4EE5-A817-CEBB6A365A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71600" y="144792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VD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VG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V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A80-FCC5-438C-AC49-7A16B8901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VU tinklalapių administravim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Žiniatinklio resursų administravimo tarnyba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(webmas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vu.l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esursų tinklalapiams skyr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erverio admini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galba tinklalapių administratoriams, sprendžiant iškilusia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eriodinis serverio aud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tinklalapių administratori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sakomyb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ministruojam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 tinklalap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sakomybė už skirtų resursų naudoji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3300"/>
                </a:solidFill>
                <a:latin typeface="Arial"/>
              </a:rPr>
              <a:t>Problem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Serverių pažeidimai 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08 m. – 21, 2009 m. – 17)</a:t>
            </a: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ff3300"/>
                </a:solidFill>
                <a:latin typeface="Arial"/>
              </a:rPr>
              <a:t>Programinių kodų “išlaužimai”, žalingų kodų įkėlim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ff3300"/>
                </a:solidFill>
                <a:latin typeface="Arial"/>
              </a:rPr>
              <a:t>Asmens duomenų teisinės apsaugos bei autorių teisių pažeidim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Tinklalapiams skirtų resursų “šaldym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Pasitaikanti nepakankamai kvalifikuota tinklalapių prieži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560-1C59-4113-805B-CB2664B94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Žiniatinklio administr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ūly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vertinti projektų tinklalapių ir resursų administravimo ir naudojimo kaštus ir nustatyti jų padengimo tvark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kurti nuolat dirbančią grupę, sudarytą iš įvairių padalinių specialistų, kuri parengtų reikalavimus pagrindinių VU padalinių tinklalapių struktūrai, funkcionalumui ir dizainui, paruoštų šių reikalavimų įgyvendinimo bei tobulinimo tvark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E9F-396B-45B3-883F-7BAF1FF84E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371600" y="137160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VD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VG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7CE-19E3-4ECE-8134-677FD08F1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VU tarptautinis interneto kana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676520" y="1447920"/>
          <a:ext cx="7010280" cy="35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701028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981080" y="5029200"/>
          <a:ext cx="6477120" cy="838080"/>
        </p:xfrm>
        <a:graphic>
          <a:graphicData uri="http://schemas.openxmlformats.org/drawingml/2006/table">
            <a:tbl>
              <a:tblPr/>
              <a:tblGrid>
                <a:gridCol w="499680"/>
                <a:gridCol w="496800"/>
                <a:gridCol w="499680"/>
                <a:gridCol w="496800"/>
                <a:gridCol w="499680"/>
                <a:gridCol w="496440"/>
                <a:gridCol w="498600"/>
                <a:gridCol w="496440"/>
                <a:gridCol w="499680"/>
                <a:gridCol w="497160"/>
                <a:gridCol w="499680"/>
                <a:gridCol w="496800"/>
                <a:gridCol w="499680"/>
              </a:tblGrid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523-BEE6-4AEB-B264-9C29B28B5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išėjimas į internet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U tinklo naudotojai internetą pasiekia per VU tarptautinį interneto kanalą ir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TU tarptautinį interneto kanal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U įrengtas rezervinis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tarptautinio interneto kanalas sudaro sąlyg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esioginiam VU duomenų srauto išėjimui į tarptautinį internet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vykus gedimui pagrindiniame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išėjimo į internetą kanale, įrengtame KTU ITPI, ir kitoms akademinėms institucijoms, prijungtoms prie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pasiekti internet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m.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U interneto ka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fin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as pagal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program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raukia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to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m. t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interneto ryšio pablogėjimas VU tinklo naudotoja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l būtų tikslinga rasti kitų finansavimo būd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1EF-A34C-4326-940B-4C534C335D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371600" y="137160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VD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VG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VU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2CF-B7A1-451B-A0D9-45610BF1E9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Arial"/>
              </a:rPr>
              <a:t>proxy.vu.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proxy.vu.lt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 tai priemonė, leidžianti taupiai naudoti tinklo resur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džioje buvo naudojama kaip priemonė, leidžianti išvengti nepatogumų dėl nepakankamai pralaidžių ryšio linij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m. daugiausia naudojama priv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čių IP adresų transliac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EEA-1DC6-4935-9ABC-B7BFA2EA90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371600" y="137160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VDA, VGTU, VU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2C8-8229-4A70-9F85-D0986464C5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Arial"/>
              </a:rPr>
              <a:t>tucows.vu.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Vilniaus universitetas įgijo teisę įdiegti “veidrodinę” internetinės programinės įrangos saugyklą ir teikti šios įrangos platinimo paslaug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151-D4C5-4751-863D-7EC940A1B1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 C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 Cer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sako u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inkamą ir saugų VU tinklo veikimą bendrame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tink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cidentų, kilusių VU tinkle, sprendim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m.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U tinkle jau nustaty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20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ncident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m. – 32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pi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1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incidentą pranešė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LITNE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C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pi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incidentus pranešimai gauti iš kt. šaltini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incidentai susiję su autorių teisių pažeidi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žniausiai pasitaikantys yra DNS bei tinklalapių pažeidimai, virusų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37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cker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) ir brukalo platin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F42-19A1-4B8B-9607-07D3526F8B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el.paš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1992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2185920" cy="283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47640" y="501336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348000" y="501336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20000" y="501336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740720" y="2997360"/>
            <a:ext cx="9874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516720" y="3645000"/>
            <a:ext cx="504720" cy="4032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867280" y="3716280"/>
            <a:ext cx="1944720" cy="684360"/>
            <a:chOff x="5867280" y="3716280"/>
            <a:chExt cx="1944720" cy="684360"/>
          </a:xfrm>
        </p:grpSpPr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7164360" y="3716280"/>
              <a:ext cx="6476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>
              <a:off x="5867280" y="4076640"/>
              <a:ext cx="6480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732720" y="3860280"/>
              <a:ext cx="504720" cy="4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C94-45A2-4C63-976C-C67D8C50C0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371600" y="1371600"/>
          <a:ext cx="73152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S: Pirmasis duome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perdavimo kanala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las-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el.pa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VU TCP/IP lokal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ūs tinklai (LK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autonominė sistema 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oji šviesolaidinė linija VU tinkle: VU CR – VU M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k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tarptautinis interneto kanalas 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km šviesolaidžio sujung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VDA, VGTU, VU universitetinių miesteli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ows.vu.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 programinės įrangos saugyk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ps magistralės tarp VU padalini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lios Linux progr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įrangos saugykla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berg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o naudojimo internet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s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BA7-72E5-4E31-8AC0-73DB74E1B3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Bendro naudojimo internetinės klasė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ervaci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zamin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žsiėmimai (kassavaitinės paskaito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kalūs naudotoj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zaminuota student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2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0E3-43A1-498D-8238-B859B36F8A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371600" y="1600200"/>
          <a:ext cx="7315200" cy="4646520"/>
        </p:xfrm>
        <a:graphic>
          <a:graphicData uri="http://schemas.openxmlformats.org/drawingml/2006/table">
            <a:tbl>
              <a:tblPr/>
              <a:tblGrid>
                <a:gridCol w="1143000"/>
                <a:gridCol w="6172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 VU kompiuterių tinklo prijungti visi bendrabuč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 srauto 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sp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kontrolės priemon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house dnsb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bevielės prieigos tašk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tartis s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ėl programų su universitetinėmis licencijomis naudoj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antec Mail Secu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(SMS 82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Įsijungta į Europos šalių akademinių institucijų bevielės prieigos tinklą </a:t>
                      </a:r>
                      <a:r>
                        <a:rPr b="0" i="1" lang="nl-NL" sz="14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DUR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VU tinkle regi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jektuotas ir įrengtas Universiteto kompiuterių tinklo duomenų perdavimo magistralinis žiedas Universiteto g. 3 - Saulėtekio al. 9 - Santariškių g. 2 - Universiteto g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V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klo resursų ir paslaugų stebėjimo sistemos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r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sertifik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4FB-3D8E-47AE-A8DC-2E845012FD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mpiuteri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inkla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bendrabučiu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endrabuči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T administruoja VŠĮ “Būstas” administratoriai (esant poreikiams, jie taiko tam tikrus resursų ribojimus gyventoj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06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reng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turi nauji CWDM 1Gb/s kanalai, kurie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 vieną tinkl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jung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ŠĮ “Būstas” bendrabučių tink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– Saulėtekio al., Baltupių raj. bei 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rlioni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ažda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0 studen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, gyvenančių VŠĮ “Būstas” bendrabučiuose, sunaudoja api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% viso VU duome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ra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Kyla nemažai tinklo naudojimo pažeidimų (virusų, brukalo, platinimo, autorių teisių pažeidim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Dažnai vangi tinklo administratorių reakcija į VU CERT tarnybos praneši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Netinkamas gyventojų informavimas apie teikiamas tinklo paslaugas ir kilusių problemų sprendimo tvark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066-B8A3-4CA6-8B6C-7DF2526DA6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371600" y="1600200"/>
          <a:ext cx="7315200" cy="4646520"/>
        </p:xfrm>
        <a:graphic>
          <a:graphicData uri="http://schemas.openxmlformats.org/drawingml/2006/table">
            <a:tbl>
              <a:tblPr/>
              <a:tblGrid>
                <a:gridCol w="1143000"/>
                <a:gridCol w="6172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 VU kompiuterių tinklo prijungti visi bendrabuč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 srauto 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sp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kontrolės priemon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house dnsb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bevielės prieigos tašk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tartis s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ėl programų su universitetinėmis licencijomis naudoj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antec Mail Secu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(SMS 82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Įsijungta į Europos šalių akademinių institucijų bevielės prieigos tinklą </a:t>
                      </a:r>
                      <a:r>
                        <a:rPr b="0" i="1" lang="nl-NL" sz="14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DUR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VU tinkle regi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jektuotas ir įrengtas Universiteto kompiuterių tinklo duomenų perdavimo magistralinis žiedas Universiteto g. 3 - Saulėtekio al. 9 - Santariškių g. 2 - Universiteto g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V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klo resursų ir paslaugų stebėjimo sistemos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r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sertifik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034-011C-4490-8903-692E9B11D7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Arial"/>
              </a:rPr>
              <a:t>Webmail.vu.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s://webmail.vu.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l.pašto tvarkymo priemonė, leidžianti su naršykle saugiai prisijungti prie VU el.pašto sistemos ir pasiekti savo el.pašto dėžu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Horde IM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programinė įra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viro k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Laisvai plat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lačiai naudojama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TEREN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priklausančiuose akademiniuose tinklu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daptuota VU ir nuolat prižiūrima (tenka taisyti gamintojų-programuotojų klaidas, nekokybišką lietuviškos aplinkos vertim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5C4-F666-4B8A-A80F-AC552A7D53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371600" y="1600200"/>
          <a:ext cx="7315200" cy="4646520"/>
        </p:xfrm>
        <a:graphic>
          <a:graphicData uri="http://schemas.openxmlformats.org/drawingml/2006/table">
            <a:tbl>
              <a:tblPr/>
              <a:tblGrid>
                <a:gridCol w="1143000"/>
                <a:gridCol w="6172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 VU kompiuterių tinklo prijungti visi bendrabuč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 srauto 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sp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kontrolės priemon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house dnsb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bevielės prieigos tašk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tartis s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ėl programų su universitetinėmis licencijomis naudoj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antec Mail Secu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(SMS 82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Įsijungta į Europos šalių akademinių institucijų bevielės prieigos tinklą </a:t>
                      </a:r>
                      <a:r>
                        <a:rPr b="0" i="1" lang="nl-NL" sz="14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DUR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VU tinkle regi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jektuotas ir įrengtas Universiteto kompiuterių tinklo duomenų perdavimo magistralinis žiedas Universiteto g. 3 - Saulėtekio al. 9 - Santariškių g. 2 - Universiteto g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V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klo resursų ir paslaugų stebėjimo sistemos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r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sertifik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146-C205-44E0-836F-DC70BBDA92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Kompiuterių programos su universitetinėmis licencijo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ŠMM dovanojimo sutartis dėl kompiuterinio žodyno “Alkonas” naudojimo VU įrengtose kompiuterinėse darbo vietose (KDV)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Sutartis su </a:t>
            </a:r>
            <a:r>
              <a:rPr b="0" i="1" lang="lt-LT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 m., atnaujinta 2008 m. (3 m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tarti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su </a:t>
            </a:r>
            <a:r>
              <a:rPr b="0" i="1" lang="lt-LT" sz="1600" spc="-1" strike="noStrike">
                <a:solidFill>
                  <a:srgbClr val="000000"/>
                </a:solidFill>
                <a:latin typeface="Arial"/>
              </a:rPr>
              <a:t>Kaspersk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ėl KDV antivirusinės apsaug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m. (3 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Šiuo metu visose VU KDV galima naudoti (atskirai jų neįsigyjan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MS OS Upgrade (įvairios versijos, yra specialių sąlyg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MS Office programų pake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AV Kaspersky KDV apsaug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Kompiuterinį žodyną “Alkona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Pilnas programų sąrašas pateiktas KPD (kompiuterių programų diegimų) reg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Galimybė diegti programas namų kompiuteriuose (yra specialių sąlyg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Kompiuterių programų su universitetinėmis licencijomis naudojimą nusak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icencinių sutarčių reikalavim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Rektoriaus patvirtinta tvar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Už kompiuterių programų su universitetinėmis licencijomis naudojimą padalinyje atsako ir diegimais rūpinasi padalinio licencijų administrator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ABF-8859-4DD2-9046-D8122C1709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KPD regis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PD regis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žregistruo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7 prog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l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ci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ministratoriai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buvu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– 19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8 užsaky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 - 10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S - 5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spersky -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to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ryt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1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diegimo d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kop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E55-94D0-4062-A7D7-7E7FBF79C9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371600" y="1600200"/>
          <a:ext cx="7315200" cy="4646520"/>
        </p:xfrm>
        <a:graphic>
          <a:graphicData uri="http://schemas.openxmlformats.org/drawingml/2006/table">
            <a:tbl>
              <a:tblPr/>
              <a:tblGrid>
                <a:gridCol w="1143000"/>
                <a:gridCol w="6172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 VU kompiuterių tinklo prijungti visi bendrabuč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 srauto 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sp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kontrolės priemon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house dnsb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bevielės prieigos tašk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tartis s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ėl programų su universitetinėmis licencijomis naudoj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antec Mail Secu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(SMS 82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Įsijungta į Europos šalių akademinių institucijų bevielės prieigos tinklą </a:t>
                      </a:r>
                      <a:r>
                        <a:rPr b="0" i="1" lang="nl-NL" sz="14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DUR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VU tinkle regi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jektuotas ir įrengtas Universiteto kompiuterių tinklo duomenų perdavimo magistralinis žiedas Universiteto g. 3 - Saulėtekio al. 9 - Santariškių g. 2 - Universiteto g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V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klo resursų ir paslaugų stebėjimo sistemos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r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sertifik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E21-07D4-4A51-B44C-01C079221F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U e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l. pašto si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70080" y="1765440"/>
            <a:ext cx="281952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2421000"/>
            <a:ext cx="14479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Web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p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2435400"/>
            <a:ext cx="1447920" cy="99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Log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62880" y="3730680"/>
            <a:ext cx="14475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236196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am / antiviru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30880" y="2070000"/>
            <a:ext cx="7920" cy="51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924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407664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08720" y="2892600"/>
            <a:ext cx="1131840" cy="316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78240" y="4436640"/>
            <a:ext cx="64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26360" y="3425400"/>
            <a:ext cx="0" cy="3049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97160" y="2511360"/>
            <a:ext cx="434340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38800" y="21416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666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5486400"/>
            <a:ext cx="6594480" cy="91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84720" y="5157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4437000"/>
            <a:ext cx="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637000"/>
            <a:ext cx="2232000" cy="1512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1240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508640"/>
            <a:ext cx="1944720" cy="647640"/>
          </a:xfrm>
          <a:prstGeom prst="wedgeRectCallout">
            <a:avLst>
              <a:gd name="adj1" fmla="val 79143"/>
              <a:gd name="adj2" fmla="val -136518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 SERVER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darbuotojam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144792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Web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ternatyv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852640"/>
            <a:ext cx="2232000" cy="151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MAIL SER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tudentam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3124080"/>
            <a:ext cx="144792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Web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ternatyv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962520"/>
            <a:ext cx="144792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MailMan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86000" y="38095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40080" y="36576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29360" y="4452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24640" y="48340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38080" y="110664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0D4-AF0A-4622-934D-708EA5D3A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irA el.pašto srauto kontrol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lniaus universitete el. pašto srautą filtruoj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MS 8300 Seri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įrenginiai (modelis 8360), kuriuose įdiegta el. pašto apsaugos nuo el. šiukšlių ir virusų sistema „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ymantec Brightmail Gatewa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. Ši sistema VU naudojama nu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. laiškai, patikrinti nu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r atitinkantys visus el. šiukšlių požymius, VU el. pašto sistemoje yra žymimi [BRUKALAS]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ekiant sumažinti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RUKAL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raut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nu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09 m.  liepos  10 d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BRUKALAS] pažymėti laiškai  nepristatomi į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el. pašto dėžutes. Jeigu dėl kokių nors priežasčių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ūtin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auti [BRUKALAS] pažymėtus nieklaiškius,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tokia galimybė yra – tereikia pateikt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ašymą adresu antispam@vu.l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-02-01 VU el.pa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srauta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rilygintas komercinio IPT srautu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d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ėl buvo atimta teisė nemokamai naudoti 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SpamHouse dnsrbl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filtrą, kuris veikė ypač efektyv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BC3-E5D2-4A61-841D-7195C05281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VU el.pašto srautas ir </a:t>
            </a:r>
            <a:br>
              <a:rPr sz="4000"/>
            </a:br>
            <a:r>
              <a:rPr b="0" i="1" lang="lt-LT" sz="4000" spc="-1" strike="noStrike">
                <a:solidFill>
                  <a:srgbClr val="000000"/>
                </a:solidFill>
                <a:latin typeface="Arial"/>
              </a:rPr>
              <a:t>AirA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trol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44200" y="171288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.laiškų filtravimo statistika nu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-01-01 iki 2009-12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95288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D92-4A27-4C3F-804E-E5A0DB58D7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Bevielė prieiga ir </a:t>
            </a:r>
            <a:r>
              <a:rPr b="0" i="1" lang="lt-LT" sz="4400" spc="-1" strike="noStrike">
                <a:solidFill>
                  <a:srgbClr val="000000"/>
                </a:solidFill>
                <a:latin typeface="Arial"/>
              </a:rPr>
              <a:t>Edu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roam bevielio tinklo paslauga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V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vo prad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teikti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2007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Šiuo metu veikia 70 prisijungimo tašk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FF, EF, FSF, TSPMI, IF, ITTC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B4F-B139-4F93-B1B1-C5002DED17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Chart 3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516" name="Chart 4" descr=""/>
          <p:cNvPicPr/>
          <p:nvPr/>
        </p:nvPicPr>
        <p:blipFill>
          <a:blip r:embed="rId2"/>
          <a:stretch/>
        </p:blipFill>
        <p:spPr>
          <a:xfrm>
            <a:off x="2057400" y="762120"/>
            <a:ext cx="495288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010-A6A6-4335-B170-1E4A539EC4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371600" y="1600200"/>
          <a:ext cx="7315200" cy="4646520"/>
        </p:xfrm>
        <a:graphic>
          <a:graphicData uri="http://schemas.openxmlformats.org/drawingml/2006/table">
            <a:tbl>
              <a:tblPr/>
              <a:tblGrid>
                <a:gridCol w="1143000"/>
                <a:gridCol w="6172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 VU kompiuterių tinklo prijungti visi bendrabuč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 srauto 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sp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kontrolės priemon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house dnsb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bevielės prieigos tašk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tartis s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ėl programų su universitetinėmis licencijomis naudoj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antec Mail Secu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(SMS 82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Įsijungta į Europos šalių akademinių institucijų bevielės prieigos tinklą </a:t>
                      </a:r>
                      <a:r>
                        <a:rPr b="0" i="1" lang="nl-NL" sz="14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DUR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VU tinkle regi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jektuotas ir įrengtas Universiteto kompiuterių tinklo duomenų perdavimo magistralinis žiedas Universiteto g. 3 - Saulėtekio al. 9 - Santariškių g. 2 - Universiteto g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V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klo resursų ir paslaugų stebėjimo sistemos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r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sertifik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02F-CEB8-4A2B-9842-C73DE4D589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roblemų VU tinkle regis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limybė registruoti atsiradusią problemą, kuri nukreipiama atitinkamai tarnybai (el.pašto, tinklalapių, tinklo administratoriams, naudotojų aptarnavimo tarnybai ir k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rijų lygių registravimo aplin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isiems viešai prie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ų registratorių (pvz., naudotojų aptarnavimo tarnyb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ų sprendėj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u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žfiksuoti proble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anešti atitinkamai tarnyb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ontroliuosi ir fiksuoti problemos sprendimo eig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nalizuoti ir sisteminti surinktus duom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2F0-34F4-4BA1-A9F3-40B3D23EB1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371600" y="1600200"/>
          <a:ext cx="7315200" cy="4646520"/>
        </p:xfrm>
        <a:graphic>
          <a:graphicData uri="http://schemas.openxmlformats.org/drawingml/2006/table">
            <a:tbl>
              <a:tblPr/>
              <a:tblGrid>
                <a:gridCol w="1143000"/>
                <a:gridCol w="6172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 VU kompiuterių tinklo prijungti visi bendrabuč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.vu.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 srauto 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spamin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ės kontrolės priemon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house dnsb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mieji bevielės prieigos tašk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tartis s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ėl programų su universitetinėmis licencijomis naudoj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antec Mail Secu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(SMS 82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Įsijungta į Europos šalių akademinių institucijų bevielės prieigos tinklą </a:t>
                      </a:r>
                      <a:r>
                        <a:rPr b="0" i="1" lang="nl-NL" sz="14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EDUR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VU tinkle regi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jektuotas ir įrengtas Universiteto kompiuterių tinklo duomenų perdavimo magistralinis žiedas Universiteto g. 3 - Saulėtekio al. 9 - Santariškių g. 2 - Universiteto g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V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klo resursų ir paslaugų stebėjimo sistemos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r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i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ų sertifik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904-36E0-46FD-9D06-44745CC9F79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diegta 2008-03-05, </a:t>
            </a:r>
            <a:r>
              <a:rPr b="0" lang="lt-LT" sz="1800" spc="-1" strike="noStrike">
                <a:solidFill>
                  <a:srgbClr val="33cc33"/>
                </a:solidFill>
                <a:latin typeface="Arial"/>
              </a:rPr>
              <a:t>atnaujinta 2009-10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2676 naudotoj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ISCO VPN ir PPTP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teikiamos galimybė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U VPN leidžia naudotis visais VU kompiuterių tinklo resursais, lyg dirbtumėte VU kompiuterių tinkle įrengtoje darbo vieto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grindiniai VU VPN panaudojimo scenarij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Prieiga prie VU bibliotekos prenumeruojamų duomenų bazi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aiškų siuntimas per Vilniaus universiteto SMTP server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Microsoft programų universitetinių licencijų aktyvavi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Ribotos prieigos sistemų administravi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3300"/>
                </a:solidFill>
                <a:latin typeface="Arial"/>
              </a:rPr>
              <a:t>Dažniausiai pasitaikančios prisijungimo problem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ff3300"/>
                </a:solidFill>
                <a:latin typeface="Arial"/>
              </a:rPr>
              <a:t>Netinkama antivirusinių programų konfigūraci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ff3300"/>
                </a:solidFill>
                <a:latin typeface="Arial"/>
              </a:rPr>
              <a:t>Netinkamai konfigūruotos ugniasienė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ff3300"/>
                </a:solidFill>
                <a:latin typeface="Arial"/>
              </a:rPr>
              <a:t>Netinkama bevielių maršrutizatorių konfigūra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ff3300"/>
                </a:solidFill>
                <a:latin typeface="Arial"/>
              </a:rPr>
              <a:t>IPT draudimas naudoti VPN tunel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A17-891B-4748-BB08-E3C25585F6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Tinklo resursų bei paslaugų stebėjimo sistemos ir k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T segmentų ir paslaugų stebėjimo sist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agio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Cact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Cri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cc33"/>
                </a:solidFill>
                <a:latin typeface="Arial"/>
              </a:rPr>
              <a:t>rengiamas saugumo priemonių paketas LKT administrator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erverių sertifik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RENA koordinuojama akademinėms institucijos skirta serverių sertifikatų valdymo paslauga (</a:t>
            </a:r>
            <a:r>
              <a:rPr b="0" lang="lt-LT" sz="2000" spc="-1" strike="noStrike">
                <a:solidFill>
                  <a:srgbClr val="33cc33"/>
                </a:solidFill>
                <a:latin typeface="Arial"/>
              </a:rPr>
              <a:t>šiuo metu vykdomas paslaugos atnaujin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isteminės informacijos saugyk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T serverių ir paslaugų centralizuoto sisteminės informacijos surinkimo ir saugojimo sistema (CS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cc33"/>
                </a:solidFill>
                <a:latin typeface="Arial"/>
              </a:rPr>
              <a:t>analizuojama CSISS posistemės, skirtos LKT, įdiegimo galimyb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5DF-4219-40EA-AED7-0CDA00DF2A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371600" y="1600200"/>
          <a:ext cx="7315200" cy="2438280"/>
        </p:xfrm>
        <a:graphic>
          <a:graphicData uri="http://schemas.openxmlformats.org/drawingml/2006/table">
            <a:tbl>
              <a:tblPr/>
              <a:tblGrid>
                <a:gridCol w="1066680"/>
                <a:gridCol w="624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dotojų aptarnavimo grup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galerij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 (Centralizuota atpažinimo siste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inių vardų registrav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88-EF63-4652-8B4F-E97DD3C80E6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 el.pa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što naudoto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65360" y="1636560"/>
            <a:ext cx="295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 viso naudotojų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8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mail naudotoj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4154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udotoj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        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udotoj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ų: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7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343400" y="3138480"/>
          <a:ext cx="411480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138480"/>
                    <a:ext cx="41148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F82-B9B5-4B66-AB77-2655F6C01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Naudotojų aptarnavimo grup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inės funkc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TTC teikiamų informacinių technologijų paslaugų naudotojų kreipinių ir užsakymų administravimas dokumentų valdymo sistemos “Avilys” pagal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raiškų regi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Užduočių paskirsty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Užduočių vykdymo kontrol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B administr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j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ų IS naudotojų kūr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aujų prieigų prie IS DB aplikacijų kūr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aujų VU struktūrinių padalinių ir programų įtraukimas į aplikacijų filt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-o lygio IS naudotojų konsult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995-61EE-47ED-B79C-7047B30E15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Chart 5" descr=""/>
          <p:cNvPicPr/>
          <p:nvPr/>
        </p:nvPicPr>
        <p:blipFill>
          <a:blip r:embed="rId1"/>
          <a:stretch/>
        </p:blipFill>
        <p:spPr>
          <a:xfrm>
            <a:off x="1371600" y="365040"/>
            <a:ext cx="7315200" cy="56991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30240" y="552276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š viso paraiškų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D19-0A79-4BC4-BF36-C0C62FC877D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1644480" y="865080"/>
          <a:ext cx="676764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865080"/>
                    <a:ext cx="676764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A4D-59EF-48FA-B634-DB7EC69CCAB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1852560" y="1025640"/>
          <a:ext cx="6353280" cy="437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025640"/>
                    <a:ext cx="635328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1DA-5D49-49B2-835F-46AD019B33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371600" y="1600200"/>
          <a:ext cx="7315200" cy="2438280"/>
        </p:xfrm>
        <a:graphic>
          <a:graphicData uri="http://schemas.openxmlformats.org/drawingml/2006/table">
            <a:tbl>
              <a:tblPr/>
              <a:tblGrid>
                <a:gridCol w="1066680"/>
                <a:gridCol w="624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dotojų aptarnavimo grup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galerij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 (Centralizuota atpažinimo siste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inių vardų registrav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239-7DC2-417C-8690-2A7568569AE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galer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ugant poreikiui skelbti vis daugiau skaitmeninės vaizdinės informacijos, įdiegta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VI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sistema, skirta elektroninių galerijų organizavimui ir administravim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VI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Skaitmeninės vaizdinės informacijos sistema)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– tai resursų ir priemonių, skirtų skaitmeninės vaizdinės informacijos saugojimui ir skelbimui, vis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VIS resursai – tai serverinė ir duomenų saugojimo įranga su joje veikiančia specializuota sistemine ir programine įran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VIS resursai nustatyta tvarka skiriami universiteto struktūrinių padalinių poreikiams, susijusiems su moksline veikla bei studijų proceso užtikrinimu, tenki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VIS sistema leidžia efektyviai naudoti galerijų skelbimui skirtus serverinius resursus bei duomenų archyvavimo prie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629-1795-4BB2-A351-96549206AA2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371600" y="1600200"/>
          <a:ext cx="7315200" cy="2438280"/>
        </p:xfrm>
        <a:graphic>
          <a:graphicData uri="http://schemas.openxmlformats.org/drawingml/2006/table">
            <a:tbl>
              <a:tblPr/>
              <a:tblGrid>
                <a:gridCol w="1066680"/>
                <a:gridCol w="624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dotojų aptarnavimo grup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galerij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CAS (Centralizuota atpažinimo siste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inių vardų registrav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6E3-17AB-4673-830F-3474E8C91D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U 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U CAS - tai priemonė, leidžianti tinklalapio lankytojams pasiekti jiems skirtą, ribotos prieigos informacij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tpažinimui naudojami tie patys prieigos duomenys, kaip ir VU el.pašto sistem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U CAS naudojimo instrukcija bei kita darbui su CAS aktuali informacija skelbiama internete, VU kompiuterių tinklo tinklalapio www.tinklas.vu.lt paslaugų skilty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U žiniatinklio serverio tinklalapių administratoriai gali kreiptis dėl paslaugos suteikimo el. paštu webmaster@vu.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38B-77A7-45AD-B909-4EC5FD32417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aslaugos universitet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371600" y="1600200"/>
          <a:ext cx="7315200" cy="2438280"/>
        </p:xfrm>
        <a:graphic>
          <a:graphicData uri="http://schemas.openxmlformats.org/drawingml/2006/table">
            <a:tbl>
              <a:tblPr/>
              <a:tblGrid>
                <a:gridCol w="1066680"/>
                <a:gridCol w="624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dotojų aptarnavimo grup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 galerij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 (Centralizuota atpažinimo siste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inių vardų registravim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Domre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3A4-3F3C-4180-B06C-430A982CFD1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Internetinių vardų registravimas (DomRe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u KTU ITPI derinama sutartis dėl VU kaip vardų registravimo paslaugos teikėjo sutar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grindiniai momen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bus tiesiogiai, be tarpininkų registruoti tuos antro lygio internetinius vardus, už kuriuos bus mokama per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paprastės vardų registravimo procedū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701-5FB7-435B-B33A-6DCE7B517A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Naudotojui skiriami resur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d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rd</a:t>
            </a: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i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.Pavard</a:t>
            </a: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is@[pad_k].vu.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ard</a:t>
            </a: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ni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.Pavard</a:t>
            </a: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is@[pad_k].stud.vu.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ardenis.Pavardeni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@</a:t>
            </a: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[org_domai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skinė vi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B  darbuo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j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5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B Inbo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0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MB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5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B Inbo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0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MB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sveči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50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B Inbo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0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ntispam / antivi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kontr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pinio susira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nėjimo priemonė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MailMan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el.konferen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C92-701D-4FE0-9F3A-A12A13447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ėt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, 2011,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El. paveldo projektas (200000 puslapių lietuviškos spaudos, 20000 puslapių bažnytinių archyv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ietuvos žemėlapiai (100000 vienet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VU Skaitmeninė televi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ietuvos Mokslo duomenų archy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2C1-44AE-43F2-AD57-11E2E66779C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5847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Esam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TC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serverių salė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648-1022-4F0E-A89F-EF30275BB27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TTC serverių salės vi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C48-8B6D-4B3E-ADC1-A0B5E03D821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Serverių salės rekonstruk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43000" y="22096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alpos rekonstr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ušinimas ir oro apy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ektros maitinimo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isro gesinimo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linkos parametrų stebėjimo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0A1-099E-4AEB-9277-97000F5E44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t-LT" sz="4800" spc="-1" strike="noStrike">
                <a:solidFill>
                  <a:srgbClr val="000000"/>
                </a:solidFill>
                <a:latin typeface="Arial"/>
              </a:rPr>
              <a:t>ČI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jus Jurg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imantas Kut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elija Gefenie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aiva Šimkūnie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ičardas Sabaliaus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B91-795E-4719-BDC9-1B178F097FE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El. pašto resursų naudojimo poli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dreso galiojimas darbo ir studijų laikotarpi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iršijus diskinę viet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33cc33"/>
                </a:solidFill>
                <a:latin typeface="Arial"/>
              </a:rPr>
              <a:t>neribojamas el.žinučių priėmimas (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!!!</a:t>
            </a:r>
            <a:r>
              <a:rPr b="0" lang="lt-LT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ibojamas el.žinučių išsiuntimas per IMAP (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webmail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pine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spėjus, didelis INBOX’as iškeliamas į laikiną saugyk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Air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trol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33cc33"/>
                </a:solidFill>
                <a:latin typeface="Arial"/>
              </a:rPr>
              <a:t>Įranga atnaujinta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2009-06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pam (ne)pristatymo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Garantuojamas el.žinučių pristatymas VU el.pašto sistemos rib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žsakomos paslau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Pine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(darbuotoj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Forward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nerekomenduoj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. konferenc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D13-5A83-4D71-8564-E63D355DA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lan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ilnas LDAP pal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eribotos talpos el. pašto dėžut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Didesnis patikim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Galimybė archyvuoti SMTP sraut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Galimybė migruoti (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tnaujinti įrenginiu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yv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žiniatinklio paš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F91-04E3-437D-A504-A20B208D3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El.konferencijo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1371600"/>
          <a:ext cx="3581280" cy="227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35812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800600" y="3505320"/>
          <a:ext cx="411480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05320"/>
                    <a:ext cx="4114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517400" y="1447920"/>
            <a:ext cx="33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000000"/>
                </a:solidFill>
                <a:latin typeface="Arial"/>
              </a:rPr>
              <a:t>El.pašto </a:t>
            </a:r>
            <a:r>
              <a:rPr b="1" lang="lt-LT" sz="1400" spc="-1" strike="noStrike">
                <a:solidFill>
                  <a:srgbClr val="000000"/>
                </a:solidFill>
                <a:latin typeface="Arial Narrow"/>
              </a:rPr>
              <a:t>konferencijos</a:t>
            </a:r>
            <a:r>
              <a:rPr b="1" lang="lt-LT" sz="1400" spc="-1" strike="noStrike">
                <a:solidFill>
                  <a:srgbClr val="000000"/>
                </a:solidFill>
                <a:latin typeface="Arial"/>
              </a:rPr>
              <a:t> pagal naudotoj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U ITTC, 2009 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6A6-D787-4997-991A-361A3107B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02:19Z</dcterms:created>
  <dc:creator>Admin</dc:creator>
  <dc:description/>
  <dc:language>en-US</dc:language>
  <cp:lastModifiedBy>Admin</cp:lastModifiedBy>
  <dcterms:modified xsi:type="dcterms:W3CDTF">2009-12-17T14:28:30Z</dcterms:modified>
  <cp:revision>76</cp:revision>
  <dc:subject/>
  <dc:title>E-paslaugos univeritete</dc:title>
</cp:coreProperties>
</file>